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6FD28-790A-4219-AFCD-C88A45845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FF534-AAA5-416D-87A5-05AC6BB9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5D336-708A-43A2-BA92-D6D1696BB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1C552-AB1C-4654-B07A-6ECFB74EE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E7CBB-C6A1-406F-A952-0420FBA93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B869A-E781-448C-B8E5-0A07C40BB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E59FA-9E20-41BF-A90A-2522151F0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7A276-9A0C-4051-8092-72D537178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1D5DB-E992-47D4-BFF0-B2D653B0A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74F44-B27E-44D0-9112-BB691069C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61D7B-B6CB-46E3-A54A-DD4BD6AE2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36B1-87AF-4B0F-91F5-5F41431E1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ED79-864C-4B37-8E86-54C67EE7D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B998-FABB-42D0-BDEA-2D10F927B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9C136-7E2E-4431-A192-4DE3575ED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B262F-F665-46DE-85DD-7134F8606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8161A-D77F-4DFC-B0B0-48BA6A5F1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D4C8-06C9-4714-91E9-092CAB9D9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C1BE8-D4DB-4E08-8E4A-47A0A3A3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70AA-89A4-40FD-9CD0-796AAC73D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27A55-DC3C-4613-9678-54151FBD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83BC-39DE-420E-8784-9BE168998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E6F6-55F6-4AE8-832A-CA91DF2F7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72C59-D10F-466B-8DB1-90A8BBF3F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0228-9AD5-4108-94B4-7DF5BB845F7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4369-48E5-4F62-85B9-068A6743D29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P European History Test Review  Part Four</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gress of Vienna through Imperialism</a:t>
            </a:r>
            <a:endParaRPr b="0" lang="en-US" sz="3200" spc="-1" strike="noStrike">
              <a:solidFill>
                <a:srgbClr val="000000"/>
              </a:solidFill>
              <a:latin typeface="Arial Black"/>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cembrist Uprising</a:t>
            </a:r>
            <a:endParaRPr b="0" lang="en-US" sz="4000" spc="-1" strike="noStrike">
              <a:solidFill>
                <a:srgbClr val="000000"/>
              </a:solidFill>
              <a:latin typeface="Arial Black"/>
            </a:endParaRPr>
          </a:p>
        </p:txBody>
      </p:sp>
      <p:sp>
        <p:nvSpPr>
          <p:cNvPr id="103" name="PlaceHolder 2"/>
          <p:cNvSpPr>
            <a:spLocks noGrp="1"/>
          </p:cNvSpPr>
          <p:nvPr>
            <p:ph/>
          </p:nvPr>
        </p:nvSpPr>
        <p:spPr>
          <a:xfrm>
            <a:off x="-360" y="1447920"/>
            <a:ext cx="8839080" cy="417168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cret revolutionary groups were operating in Russia by the early 1800’s. </a:t>
            </a:r>
            <a:endParaRPr b="0" lang="en-US" sz="32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Society: wanted a constitutional monarchy</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ociety: wanted a democratic republic</a:t>
            </a:r>
            <a:endParaRPr b="0" lang="en-US" sz="28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ex I died, liberals wanted his brother Constantine to rule, but he abdicated in favor of his younger brother, Nicholas.</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5: revolutionaries rioted &amp; were crushed.  </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et up a very repressive police state.</a:t>
            </a:r>
            <a:endParaRPr b="0" lang="en-US" sz="32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808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ual Monarchy</a:t>
            </a:r>
            <a:endParaRPr b="0" lang="en-US" sz="4000" spc="-1" strike="noStrike">
              <a:solidFill>
                <a:srgbClr val="000000"/>
              </a:solidFill>
              <a:latin typeface="Arial Black"/>
            </a:endParaRPr>
          </a:p>
        </p:txBody>
      </p:sp>
      <p:sp>
        <p:nvSpPr>
          <p:cNvPr id="283" name="PlaceHolder 2"/>
          <p:cNvSpPr>
            <a:spLocks noGrp="1"/>
          </p:cNvSpPr>
          <p:nvPr>
            <p:ph/>
          </p:nvPr>
        </p:nvSpPr>
        <p:spPr>
          <a:xfrm>
            <a:off x="0" y="762120"/>
            <a:ext cx="9144000" cy="4171680"/>
          </a:xfrm>
          <a:prstGeom prst="rect">
            <a:avLst/>
          </a:prstGeom>
          <a:noFill/>
          <a:ln w="0">
            <a:noFill/>
          </a:ln>
        </p:spPr>
        <p:txBody>
          <a:bodyPr lIns="90000" rIns="90000" tIns="46800" bIns="46800" anchor="t">
            <a:normAutofit fontScale="80000"/>
          </a:bodyPr>
          <a:p>
            <a:pPr marL="274320" indent="-2743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ts occurred in the Hungarian part of the empire between 1861 &amp; 1867.</a:t>
            </a:r>
            <a:endParaRPr b="0" lang="en-US" sz="3200" spc="-1" strike="noStrike">
              <a:solidFill>
                <a:srgbClr val="000000"/>
              </a:solidFill>
              <a:latin typeface="Arial"/>
            </a:endParaRPr>
          </a:p>
          <a:p>
            <a:pPr marL="274320" indent="-2743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7: Ausgleich: </a:t>
            </a:r>
            <a:endParaRPr b="0" lang="en-US" sz="32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Dual Monarchy (Austro-Hungarian empire)</a:t>
            </a:r>
            <a:endParaRPr b="0" lang="en-US" sz="28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the Hungarians (Magyars) dominant over other nationalities in their region </a:t>
            </a:r>
            <a:endParaRPr b="0" lang="en-US" sz="28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ians recognized the emperor and accepted common policies for finances &amp; foreign policy.</a:t>
            </a:r>
            <a:endParaRPr b="0" lang="en-US" sz="28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y could make its own local laws.</a:t>
            </a:r>
            <a:endParaRPr b="0" lang="en-US" sz="2800" spc="-1" strike="noStrike">
              <a:solidFill>
                <a:srgbClr val="000000"/>
              </a:solidFill>
              <a:latin typeface="Arial"/>
            </a:endParaRPr>
          </a:p>
          <a:p>
            <a:pPr marL="274320" indent="-2743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faced many revolts between 1860 &amp; 1914</a:t>
            </a:r>
            <a:endParaRPr b="0" lang="en-US" sz="32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ussia in the 19th Century</a:t>
            </a:r>
            <a:endParaRPr b="0" lang="en-US" sz="4000" spc="-1" strike="noStrike">
              <a:solidFill>
                <a:srgbClr val="000000"/>
              </a:solidFill>
              <a:latin typeface="Arial Black"/>
            </a:endParaRPr>
          </a:p>
        </p:txBody>
      </p:sp>
      <p:sp>
        <p:nvSpPr>
          <p:cNvPr id="285"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society remained semi-feudal and backward, with much popular discontent.</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remained isolated from Western culture and did not modernize.</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ression &amp; censorship increased and the government was inefficient.</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zars were anti-liberal</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was weak internationally &amp; began to lose foreign wars (Crimean, Russo-Japanese)</a:t>
            </a:r>
            <a:endParaRPr b="0" lang="en-US" sz="3200" spc="-1" strike="noStrike">
              <a:solidFill>
                <a:srgbClr val="000000"/>
              </a:solidFill>
              <a:latin typeface="Arial"/>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olas I (1825-55)</a:t>
            </a:r>
            <a:endParaRPr b="0" lang="en-US" sz="4000" spc="-1" strike="noStrike">
              <a:solidFill>
                <a:srgbClr val="000000"/>
              </a:solidFill>
              <a:latin typeface="Arial Black"/>
            </a:endParaRPr>
          </a:p>
        </p:txBody>
      </p:sp>
      <p:sp>
        <p:nvSpPr>
          <p:cNvPr id="287"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79000"/>
          </a:bodyPr>
          <a:p>
            <a:pPr marL="270720" indent="-2707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tatorial ruler who stood for strong nationalism, autocracy, and religious orthodoxy.</a:t>
            </a:r>
            <a:endParaRPr b="0" lang="en-US" sz="3200" spc="-1" strike="noStrike">
              <a:solidFill>
                <a:srgbClr val="000000"/>
              </a:solidFill>
              <a:latin typeface="Arial"/>
            </a:endParaRPr>
          </a:p>
          <a:p>
            <a:pPr marL="270720" indent="-2707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id the following:</a:t>
            </a:r>
            <a:endParaRPr b="0" lang="en-US" sz="32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the royal bureaucracy </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a new legal code</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ed industry and Railroads</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d strict censorship with secret police</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strong control over the military</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t the Crimean War</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Polish revolt</a:t>
            </a:r>
            <a:endParaRPr b="0" lang="en-US" sz="2800" spc="-1" strike="noStrike">
              <a:solidFill>
                <a:srgbClr val="000000"/>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exander II (1855-81)</a:t>
            </a:r>
            <a:endParaRPr b="0" lang="en-US" sz="4000" spc="-1" strike="noStrike">
              <a:solidFill>
                <a:srgbClr val="000000"/>
              </a:solidFill>
              <a:latin typeface="Arial Black"/>
            </a:endParaRPr>
          </a:p>
        </p:txBody>
      </p:sp>
      <p:sp>
        <p:nvSpPr>
          <p:cNvPr id="2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servative reformer, who abolished serfdom in 1861.</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stvo Laws: created local assemblies to solve local problems in 1864.</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reform led to radical demands, many groups began to plot and carry out terrorist act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1: Alexander was assassinated.</a:t>
            </a:r>
            <a:endParaRPr b="0" lang="en-US" sz="32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olas II (1881-1917)</a:t>
            </a:r>
            <a:endParaRPr b="0" lang="en-US" sz="4000" spc="-1" strike="noStrike">
              <a:solidFill>
                <a:srgbClr val="000000"/>
              </a:solidFill>
              <a:latin typeface="Arial Black"/>
            </a:endParaRPr>
          </a:p>
        </p:txBody>
      </p:sp>
      <p:sp>
        <p:nvSpPr>
          <p:cNvPr id="291"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progress occurred during his reign, but urban &amp; rural conditions remained miserable and the population was on the verge of revolution. (Witte</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5: Russia lost the Russo-Japanese war.</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5: Revolution occurred which included the Bloody Sunday massacre.</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zar was forced to accept the October Manifesto which created the Duma.</a:t>
            </a:r>
            <a:endParaRPr b="0" lang="en-US" sz="2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olas, continued</a:t>
            </a:r>
            <a:endParaRPr b="0" lang="en-US" sz="4000" spc="-1" strike="noStrike">
              <a:solidFill>
                <a:srgbClr val="000000"/>
              </a:solidFill>
              <a:latin typeface="Arial Black"/>
            </a:endParaRPr>
          </a:p>
        </p:txBody>
      </p:sp>
      <p:sp>
        <p:nvSpPr>
          <p:cNvPr id="29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olas failed to uphold his promises made in the Oct. Manifesto and instead promoted more conservative policies under his chief agricultural advisor, Stolypin.</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lypin was assassinated by rebels</a:t>
            </a:r>
            <a:endParaRPr b="0" lang="en-US" sz="28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jor groups of revolutionaries existed in Russia at the turn of the century: Social Democrats (Marxists), Cadets, and Social Revolutionarie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19th Century Intellectual Revolution</a:t>
            </a:r>
            <a:endParaRPr b="0" lang="en-US" sz="4000" spc="-1" strike="noStrike">
              <a:solidFill>
                <a:srgbClr val="000000"/>
              </a:solidFill>
              <a:latin typeface="Arial Black"/>
            </a:endParaRPr>
          </a:p>
        </p:txBody>
      </p:sp>
      <p:sp>
        <p:nvSpPr>
          <p:cNvPr id="29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beral nature of society, during the Victorian era, encouraged scientific and intellectual  experimentation and discover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Astronomy progressed when better telescopes were perfected.</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late 19th century, Lavoisier, Priestly, and Dalton all made advances in chemistry and new elements were being discovered.</a:t>
            </a:r>
            <a:endParaRPr b="0" lang="en-US" sz="32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llectual Developments</a:t>
            </a: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included the following:</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of the law of conservation of energ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of how to analyze the spectrum</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aday developed the generator to produce electricity continuously (Electro-magnetism)</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son invented the incandescent lamp</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s were developed, thus providing a source of power from electricity. </a:t>
            </a:r>
            <a:endParaRPr b="0" lang="en-US" sz="2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dical Developments</a:t>
            </a:r>
            <a:endParaRPr b="0" lang="en-US" sz="4000" spc="-1" strike="noStrike">
              <a:solidFill>
                <a:srgbClr val="000000"/>
              </a:solidFill>
              <a:latin typeface="Arial Black"/>
            </a:endParaRPr>
          </a:p>
        </p:txBody>
      </p:sp>
      <p:sp>
        <p:nvSpPr>
          <p:cNvPr id="299"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 included the following:</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6: Jenner discovered how to immunize people against smallpox</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r introduced antiseptics</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ether) were introduced</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teur promoted the germ theory &amp; bacteriolog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ch also promoted the germ theory and isolated the germ that causes tuberculosis</a:t>
            </a:r>
            <a:endParaRPr b="0" lang="en-US" sz="2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edical Developments</a:t>
            </a:r>
            <a:endParaRPr b="0" lang="en-US" sz="4000" spc="-1" strike="noStrike">
              <a:solidFill>
                <a:srgbClr val="000000"/>
              </a:solidFill>
              <a:latin typeface="Arial Black"/>
            </a:endParaRPr>
          </a:p>
        </p:txBody>
      </p:sp>
      <p:sp>
        <p:nvSpPr>
          <p:cNvPr id="3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ntgen discovered the use of x-ray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dical instruments were created in factorie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s were discovered &amp; used to combat scurvy</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biotics were discovered &amp; in 1928, Fleming discovered penicillin.</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1830)</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XVIII died in 1824, bringing Charles X to the thron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was extremely conservative, and had been the leader of the “ultras” before he became king.</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his leadership, the Catholic church was given control of Catholic schools &amp; a premier was appointed without legislative approval.</a:t>
            </a:r>
            <a:endParaRPr b="0" lang="en-US" sz="32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ientific Developments</a:t>
            </a:r>
            <a:endParaRPr b="0" lang="en-US" sz="4000" spc="-1" strike="noStrike">
              <a:solidFill>
                <a:srgbClr val="000000"/>
              </a:solidFill>
              <a:latin typeface="Arial Black"/>
            </a:endParaRPr>
          </a:p>
        </p:txBody>
      </p:sp>
      <p:sp>
        <p:nvSpPr>
          <p:cNvPr id="303" name="PlaceHolder 2"/>
          <p:cNvSpPr>
            <a:spLocks noGrp="1"/>
          </p:cNvSpPr>
          <p:nvPr>
            <p:ph/>
          </p:nvPr>
        </p:nvSpPr>
        <p:spPr>
          <a:xfrm>
            <a:off x="533160" y="220932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ic Developments included:</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5: Albert Einstein advanced the theory of relativity which modified Newton’s law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 &amp; Pierre Curie, Ernest Rutherford, Sir James Chadwick, and Enrico Fermi all made discoveries about the structure of atoms and radi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Theory of Evolution</a:t>
            </a:r>
            <a:endParaRPr b="0" lang="en-US" sz="4000" spc="-1" strike="noStrike">
              <a:solidFill>
                <a:srgbClr val="000000"/>
              </a:solidFill>
              <a:latin typeface="Arial Black"/>
            </a:endParaRPr>
          </a:p>
        </p:txBody>
      </p:sp>
      <p:sp>
        <p:nvSpPr>
          <p:cNvPr id="30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Darwin and Sir Alfred Wallace simultaneously developed the theory of evolution, but Darwin is famous, because he was the first to publish the idea.</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is works, </a:t>
            </a:r>
            <a:r>
              <a:rPr b="0" lang="en-US" sz="3200" spc="-1" strike="noStrike" u="sng">
                <a:solidFill>
                  <a:srgbClr val="000000"/>
                </a:solidFill>
                <a:uFillTx/>
                <a:latin typeface="Arial"/>
              </a:rPr>
              <a:t>The Origin of the Species</a:t>
            </a:r>
            <a:r>
              <a:rPr b="0" lang="en-US" sz="3200" spc="-1" strike="noStrike">
                <a:solidFill>
                  <a:srgbClr val="000000"/>
                </a:solidFill>
                <a:latin typeface="Arial"/>
              </a:rPr>
              <a:t> (1859) and </a:t>
            </a:r>
            <a:r>
              <a:rPr b="0" lang="en-US" sz="3200" spc="-1" strike="noStrike" u="sng">
                <a:solidFill>
                  <a:srgbClr val="000000"/>
                </a:solidFill>
                <a:uFillTx/>
                <a:latin typeface="Arial"/>
              </a:rPr>
              <a:t>The Descent of Man </a:t>
            </a:r>
            <a:r>
              <a:rPr b="0" lang="en-US" sz="3200" spc="-1" strike="noStrike">
                <a:solidFill>
                  <a:srgbClr val="000000"/>
                </a:solidFill>
                <a:latin typeface="Arial"/>
              </a:rPr>
              <a:t>(1871), Darwin held that the existing animals and plants (including man) have evolved during millions of years from simpler forms of life.</a:t>
            </a:r>
            <a:endParaRPr b="0" lang="en-US" sz="32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rwin, continued</a:t>
            </a:r>
            <a:endParaRPr b="0" lang="en-US" sz="4000" spc="-1" strike="noStrike">
              <a:solidFill>
                <a:srgbClr val="000000"/>
              </a:solidFill>
              <a:latin typeface="Arial Black"/>
            </a:endParaRPr>
          </a:p>
        </p:txBody>
      </p:sp>
      <p:sp>
        <p:nvSpPr>
          <p:cNvPr id="307"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win also held  that forms of life are constantly changing, and that new forms of life are coming into existence all of the tim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laimed that life was a constant struggle for existence, with only the strongest, most adaptable species surviving.</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lled this process Natural Selection or the Survival of the Fittest.</a:t>
            </a:r>
            <a:endParaRPr b="0" lang="en-US" sz="2800" spc="-1" strike="noStrike">
              <a:solidFill>
                <a:srgbClr val="000000"/>
              </a:solidFill>
              <a:latin typeface="Arial"/>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ffects of Darwinism</a:t>
            </a:r>
            <a:endParaRPr b="0" lang="en-US" sz="4000" spc="-1" strike="noStrike">
              <a:solidFill>
                <a:srgbClr val="000000"/>
              </a:solidFill>
              <a:latin typeface="Arial Black"/>
            </a:endParaRPr>
          </a:p>
        </p:txBody>
      </p:sp>
      <p:sp>
        <p:nvSpPr>
          <p:cNvPr id="309" name="PlaceHolder 2"/>
          <p:cNvSpPr>
            <a:spLocks noGrp="1"/>
          </p:cNvSpPr>
          <p:nvPr>
            <p:ph/>
          </p:nvPr>
        </p:nvSpPr>
        <p:spPr>
          <a:xfrm>
            <a:off x="380880" y="1599840"/>
            <a:ext cx="914400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win’s ideas were met with a storm of protest, especially from religious circles.</a:t>
            </a:r>
            <a:endParaRPr b="0" lang="en-US" sz="3200" spc="-1" strike="noStrike">
              <a:solidFill>
                <a:srgbClr val="000000"/>
              </a:solidFill>
              <a:latin typeface="Arial"/>
            </a:endParaRPr>
          </a:p>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Darwinism: other people, such as Herbert Spencer, tried to apply Darwin’s evolutionary ideas to man and society.</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cer stated that only the strongest, most fit, humans should survive, and thus, he attacked social welfare measures, such as shielding the poorer (and inferior) people from starvation, etc.</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justified the attitudes of many industrialists.</a:t>
            </a:r>
            <a:endParaRPr b="0" lang="en-US" sz="2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Effects of Darwinism</a:t>
            </a:r>
            <a:endParaRPr b="0" lang="en-US" sz="4000" spc="-1" strike="noStrike">
              <a:solidFill>
                <a:srgbClr val="000000"/>
              </a:solidFill>
              <a:latin typeface="Arial Black"/>
            </a:endParaRPr>
          </a:p>
        </p:txBody>
      </p:sp>
      <p:sp>
        <p:nvSpPr>
          <p:cNvPr id="311" name="PlaceHolder 2"/>
          <p:cNvSpPr>
            <a:spLocks noGrp="1"/>
          </p:cNvSpPr>
          <p:nvPr>
            <p:ph/>
          </p:nvPr>
        </p:nvSpPr>
        <p:spPr>
          <a:xfrm>
            <a:off x="0" y="1600200"/>
            <a:ext cx="9144000" cy="54100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genics: (selective breeding of humans)</a:t>
            </a:r>
            <a:endParaRPr b="0" lang="en-US" sz="2800" spc="-1" strike="noStrike">
              <a:solidFill>
                <a:srgbClr val="000000"/>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erialism: colonizers were inherently better and had the right to exploit others.</a:t>
            </a:r>
            <a:endParaRPr b="0" lang="en-US" sz="2800" spc="-1" strike="noStrike">
              <a:solidFill>
                <a:srgbClr val="000000"/>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tism: some Social Darwinists saw superior people in all races &amp; nationalities and urged the to band together so as to prevent their being submerged by the ignorant and inferior masses.</a:t>
            </a:r>
            <a:endParaRPr b="0" lang="en-US" sz="28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zsche: superman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 racial elitism later applied by the Nazi party during the holocau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311">
                                            <p:txEl>
                                              <p:pRg st="0" end="0"/>
                                            </p:txEl>
                                          </p:spTgt>
                                        </p:tgtEl>
                                        <p:attrNameLst>
                                          <p:attrName>style.visibility</p:attrName>
                                        </p:attrNameLst>
                                      </p:cBhvr>
                                      <p:to>
                                        <p:strVal val="visible"/>
                                      </p:to>
                                    </p:set>
                                    <p:animEffect filter="fade" transition="in">
                                      <p:cBhvr additive="repl">
                                        <p:cTn id="48" dur="2000"/>
                                        <p:tgtEl>
                                          <p:spTgt spid="31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311">
                                            <p:txEl>
                                              <p:pRg st="1" end="1"/>
                                            </p:txEl>
                                          </p:spTgt>
                                        </p:tgtEl>
                                        <p:attrNameLst>
                                          <p:attrName>style.visibility</p:attrName>
                                        </p:attrNameLst>
                                      </p:cBhvr>
                                      <p:to>
                                        <p:strVal val="visible"/>
                                      </p:to>
                                    </p:set>
                                    <p:anim calcmode="lin" valueType="num">
                                      <p:cBhvr additive="repl">
                                        <p:cTn id="53" dur="1000" fill="hold"/>
                                        <p:tgtEl>
                                          <p:spTgt spid="31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 dur="1000" fill="hold"/>
                                        <p:tgtEl>
                                          <p:spTgt spid="311">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5" dur="1000" fill="hold"/>
                                        <p:tgtEl>
                                          <p:spTgt spid="311">
                                            <p:txEl>
                                              <p:pRg st="1" end="1"/>
                                            </p:txEl>
                                          </p:spTgt>
                                        </p:tgtEl>
                                        <p:attrNameLst>
                                          <p:attrName>ppt_y</p:attrName>
                                        </p:attrNameLst>
                                      </p:cBhvr>
                                      <p:tavLst>
                                        <p:tav tm="0">
                                          <p:val>
                                            <p:strVal val="#ppt_y"/>
                                          </p:val>
                                        </p:tav>
                                        <p:tav tm="100000">
                                          <p:val>
                                            <p:strVal val="#ppt_y"/>
                                          </p:val>
                                        </p:tav>
                                      </p:tavLst>
                                    </p:anim>
                                    <p:animEffect filter="fade" transition="in">
                                      <p:cBhvr additive="repl">
                                        <p:cTn id="56" dur="1000"/>
                                        <p:tgtEl>
                                          <p:spTgt spid="31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311">
                                            <p:txEl>
                                              <p:pRg st="2" end="2"/>
                                            </p:txEl>
                                          </p:spTgt>
                                        </p:tgtEl>
                                        <p:attrNameLst>
                                          <p:attrName>style.visibility</p:attrName>
                                        </p:attrNameLst>
                                      </p:cBhvr>
                                      <p:to>
                                        <p:strVal val="visible"/>
                                      </p:to>
                                    </p:set>
                                    <p:set>
                                      <p:cBhvr>
                                        <p:cTn id="61" dur="455" fill="hold">
                                          <p:stCondLst>
                                            <p:cond delay="0"/>
                                          </p:stCondLst>
                                        </p:cTn>
                                        <p:tgtEl>
                                          <p:spTgt spid="311">
                                            <p:txEl>
                                              <p:pRg st="2" end="2"/>
                                            </p:txEl>
                                          </p:spTgt>
                                        </p:tgtEl>
                                        <p:attrNameLst>
                                          <p:attrName>r</p:attrName>
                                        </p:attrNameLst>
                                      </p:cBhvr>
                                      <p:to>
                                        <p:strVal val="-45"/>
                                      </p:to>
                                    </p:set>
                                    <p:anim calcmode="lin" valueType="num">
                                      <p:cBhvr additive="repl">
                                        <p:cTn id="62" dur="455" fill="hold">
                                          <p:stCondLst>
                                            <p:cond delay="455"/>
                                          </p:stCondLst>
                                        </p:cTn>
                                        <p:tgtEl>
                                          <p:spTgt spid="31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3" dur="455" fill="hold">
                                          <p:stCondLst>
                                            <p:cond delay="0"/>
                                          </p:stCondLst>
                                        </p:cTn>
                                        <p:tgtEl>
                                          <p:spTgt spid="31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64" dur="156" autoRev="1" fill="hold">
                                          <p:stCondLst>
                                            <p:cond delay="455"/>
                                          </p:stCondLst>
                                        </p:cTn>
                                        <p:tgtEl>
                                          <p:spTgt spid="31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5" dur="136" fill="hold">
                                          <p:stCondLst>
                                            <p:cond delay="864"/>
                                          </p:stCondLst>
                                        </p:cTn>
                                        <p:tgtEl>
                                          <p:spTgt spid="311">
                                            <p:txEl>
                                              <p:pRg st="2" end="2"/>
                                            </p:txEl>
                                          </p:spTgt>
                                        </p:tgtEl>
                                        <p:attrNameLst>
                                          <p:attrName>ppt_y</p:attrName>
                                        </p:attrNameLst>
                                      </p:cBhvr>
                                      <p:tavLst>
                                        <p:tav tm="0">
                                          <p:val>
                                            <p:strVal val="#ppt_y-(0.354*#ppt_w-0.172*#ppt_h)"/>
                                          </p:val>
                                        </p:tav>
                                        <p:tav tm="100000">
                                          <p:val>
                                            <p:strVal val="#ppt_y"/>
                                          </p:val>
                                        </p:tav>
                                      </p:tavLst>
                                    </p:anim>
                                  </p:childTnLst>
                                </p:cTn>
                              </p:par>
                              <p:par>
                                <p:cTn id="66" nodeType="withEffect" fill="hold" presetClass="entr" presetID="24">
                                  <p:stCondLst>
                                    <p:cond delay="0"/>
                                  </p:stCondLst>
                                  <p:childTnLst>
                                    <p:set>
                                      <p:cBhvr>
                                        <p:cTn id="67" dur="1" fill="hold">
                                          <p:stCondLst>
                                            <p:cond delay="0"/>
                                          </p:stCondLst>
                                        </p:cTn>
                                        <p:tgtEl>
                                          <p:spTgt spid="311">
                                            <p:txEl>
                                              <p:pRg st="3" end="3"/>
                                            </p:txEl>
                                          </p:spTgt>
                                        </p:tgtEl>
                                        <p:attrNameLst>
                                          <p:attrName>style.visibility</p:attrName>
                                        </p:attrNameLst>
                                      </p:cBhvr>
                                      <p:to>
                                        <p:strVal val="visible"/>
                                      </p:to>
                                    </p:set>
                                    <p:animEffect filter="fade" transition="in">
                                      <p:cBhvr additive="repl">
                                        <p:cTn id="68" dur="1000"/>
                                        <p:tgtEl>
                                          <p:spTgt spid="311">
                                            <p:txEl>
                                              <p:pRg st="3" end="3"/>
                                            </p:txEl>
                                          </p:spTgt>
                                        </p:tgtEl>
                                      </p:cBhvr>
                                    </p:animEffect>
                                    <p:anim calcmode="lin" valueType="num">
                                      <p:cBhvr additive="repl">
                                        <p:cTn id="69" dur="1000" fill="hold"/>
                                        <p:tgtEl>
                                          <p:spTgt spid="311">
                                            <p:txEl>
                                              <p:pRg st="3" end="3"/>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311">
                                            <p:txEl>
                                              <p:pRg st="3" end="3"/>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311">
                                            <p:txEl>
                                              <p:pRg st="3" end="3"/>
                                            </p:txEl>
                                          </p:spTgt>
                                        </p:tgtEl>
                                        <p:attrNameLst>
                                          <p:attrName>ppt_y</p:attrName>
                                        </p:attrNameLst>
                                      </p:cBhvr>
                                      <p:tavLst>
                                        <p:tav tm="0">
                                          <p:val>
                                            <p:strVal val="#ppt_y-.03"/>
                                          </p:val>
                                        </p:tav>
                                        <p:tav tm="100000">
                                          <p:val>
                                            <p:strVal val="#ppt_y"/>
                                          </p:val>
                                        </p:tav>
                                      </p:tavLst>
                                    </p:anim>
                                  </p:childTnLst>
                                </p:cTn>
                              </p:par>
                              <p:par>
                                <p:cTn id="72" nodeType="withEffect" fill="hold" presetClass="entr" presetID="24">
                                  <p:stCondLst>
                                    <p:cond delay="0"/>
                                  </p:stCondLst>
                                  <p:childTnLst>
                                    <p:set>
                                      <p:cBhvr>
                                        <p:cTn id="73" dur="1" fill="hold">
                                          <p:stCondLst>
                                            <p:cond delay="0"/>
                                          </p:stCondLst>
                                        </p:cTn>
                                        <p:tgtEl>
                                          <p:spTgt spid="311">
                                            <p:txEl>
                                              <p:pRg st="4" end="4"/>
                                            </p:txEl>
                                          </p:spTgt>
                                        </p:tgtEl>
                                        <p:attrNameLst>
                                          <p:attrName>style.visibility</p:attrName>
                                        </p:attrNameLst>
                                      </p:cBhvr>
                                      <p:to>
                                        <p:strVal val="visible"/>
                                      </p:to>
                                    </p:set>
                                    <p:animEffect filter="plus(in)" transition="in">
                                      <p:cBhvr additive="repl">
                                        <p:cTn id="74" dur="2000"/>
                                        <p:tgtEl>
                                          <p:spTgt spid="3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Literature</a:t>
            </a:r>
            <a:endParaRPr b="0" lang="en-US" sz="4000" spc="-1" strike="noStrike">
              <a:solidFill>
                <a:srgbClr val="000000"/>
              </a:solidFill>
              <a:latin typeface="Arial Black"/>
            </a:endParaRPr>
          </a:p>
        </p:txBody>
      </p:sp>
      <p:sp>
        <p:nvSpPr>
          <p:cNvPr id="3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ctorian Era saw an explosion in literature which included the following:</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kens &amp; Balzac: Realism</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oets, incl. Tennyson, Arnold, the Brownings, and Dickenson</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ubert: French realist with romantic tendencie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la: political statements (‘J’accuse”)</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wrights: Ibsen, Shaw, Chekhov, etc. </a:t>
            </a:r>
            <a:endParaRPr b="0" lang="en-US" sz="2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t</a:t>
            </a:r>
            <a:endParaRPr b="0" lang="en-US" sz="4000" spc="-1" strike="noStrike">
              <a:solidFill>
                <a:srgbClr val="000000"/>
              </a:solidFill>
              <a:latin typeface="Arial Black"/>
            </a:endParaRPr>
          </a:p>
        </p:txBody>
      </p:sp>
      <p:sp>
        <p:nvSpPr>
          <p:cNvPr id="315"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tyles of art included the following:</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ism: Manet, Monet, etc.</a:t>
            </a:r>
            <a:endParaRPr b="0" lang="en-US" sz="28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ism, Abstraction, and Surrealism were practiced by Picasso, Bralve, etc.</a:t>
            </a:r>
            <a:endParaRPr b="0" lang="en-US" sz="28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ism in sculpture: Rodin (the Thinker), and bartholdi (Statue of Liberty)</a:t>
            </a:r>
            <a:endParaRPr b="0" lang="en-US" sz="28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dvent of structural steel, skyscrapers were built</a:t>
            </a:r>
            <a:endParaRPr b="0" lang="en-US" sz="28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 Composers tried to make music emotionally appealing.  (Wagner, Debussy,etc)</a:t>
            </a:r>
            <a:endParaRPr b="0" lang="en-US" sz="32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erialism</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ism is the building up of an empire by a country.</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ew Imperialism” (stimulated by the industrial revolution) began to occur after 1870 when Africa and Asia were consumed by the European powers.</a:t>
            </a:r>
            <a:endParaRPr b="0" lang="en-US" sz="32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erialism, continued</a:t>
            </a:r>
            <a:endParaRPr b="0" lang="en-US" sz="4000" spc="-1" strike="noStrike">
              <a:solidFill>
                <a:srgbClr val="000000"/>
              </a:solidFill>
              <a:latin typeface="Arial Black"/>
            </a:endParaRPr>
          </a:p>
        </p:txBody>
      </p:sp>
      <p:sp>
        <p:nvSpPr>
          <p:cNvPr id="319"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imperialism included:</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for cheap raw materials (cotton, rubber, oil, etc.) to meet the demands of industrialization.</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for markets for the sale of manufactured goods</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vision of an outlet for surplus capital to be invested</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rn for underdeveloped areas of the world</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sire to convert natives to Christianity</a:t>
            </a:r>
            <a:endParaRPr b="0" lang="en-US" sz="28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graphy</a:t>
            </a:r>
            <a:endParaRPr b="0" lang="en-US" sz="4000" spc="-1" strike="noStrike">
              <a:solidFill>
                <a:srgbClr val="000000"/>
              </a:solidFill>
              <a:latin typeface="Arial Black"/>
            </a:endParaRPr>
          </a:p>
        </p:txBody>
      </p:sp>
      <p:sp>
        <p:nvSpPr>
          <p:cNvPr id="3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ist nations included: Britain, France, Germany, Italy, Belgium, Japan, and the US.</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ed areas included the Near East, Africa, &amp; the Far East. </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East: Previously dominated by Turkey &amp; Persia, imperialist rivalries in this area (Balkans, etc.) were a catalyst in the outbreak of WWI and the Crimean War.</a:t>
            </a:r>
            <a:endParaRPr b="0" lang="en-US" sz="2800" spc="-1" strike="noStrike">
              <a:solidFill>
                <a:srgbClr val="000000"/>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position in France</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30, the Chamber of Deputies cast a vote of “no confidence” in the king, and the king disbanded the legislature and called for new election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lections brought a more liberal Chamber, and the king passed the July Ordinances (4 ordinances) in response.</a:t>
            </a:r>
            <a:endParaRPr b="0" lang="en-US" sz="32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graphy, continued</a:t>
            </a:r>
            <a:endParaRPr b="0" lang="en-US" sz="4000" spc="-1" strike="noStrike">
              <a:solidFill>
                <a:srgbClr val="000000"/>
              </a:solidFill>
              <a:latin typeface="Arial Black"/>
            </a:endParaRPr>
          </a:p>
        </p:txBody>
      </p:sp>
      <p:sp>
        <p:nvSpPr>
          <p:cNvPr id="323" name="PlaceHolder 2"/>
          <p:cNvSpPr>
            <a:spLocks noGrp="1"/>
          </p:cNvSpPr>
          <p:nvPr>
            <p:ph/>
          </p:nvPr>
        </p:nvSpPr>
        <p:spPr>
          <a:xfrm>
            <a:off x="228600" y="1523520"/>
            <a:ext cx="8686800" cy="417204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 Rivalries here were very pronounc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19th century: the interior was basically unknown.</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 1850: France had claimed Algeria, and the Cape Colony was occupied.</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1850: Stories from missionaries and explorers, such as Stanley and Livingstone, stimulated interest in the wealth of the region and led to settlement and more exploration.</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nd of the century, practically all of Africa was settled.</a:t>
            </a:r>
            <a:endParaRPr b="0" lang="en-US" sz="2800" spc="-1" strike="noStrike">
              <a:solidFill>
                <a:srgbClr val="000000"/>
              </a:solidFill>
              <a:latin typeface="Arial"/>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frica</a:t>
            </a:r>
            <a:endParaRPr b="0" lang="en-US" sz="4000" spc="-1" strike="noStrike">
              <a:solidFill>
                <a:srgbClr val="000000"/>
              </a:solidFill>
              <a:latin typeface="Arial Black"/>
            </a:endParaRPr>
          </a:p>
        </p:txBody>
      </p:sp>
      <p:sp>
        <p:nvSpPr>
          <p:cNvPr id="325" name="PlaceHolder 2"/>
          <p:cNvSpPr>
            <a:spLocks noGrp="1"/>
          </p:cNvSpPr>
          <p:nvPr>
            <p:ph/>
          </p:nvPr>
        </p:nvSpPr>
        <p:spPr>
          <a:xfrm>
            <a:off x="380520" y="1676520"/>
            <a:ext cx="8458200" cy="417168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developments in Africa included:</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2: British took over Egypt</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4: Belgium’s claim over the Congo was recognized</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0’s: France extended its control over most of NW Africa</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0’s: Britain claimed the Sudan and most of S. Africa</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and Italy were desperately trying to gain control of any African territories.</a:t>
            </a:r>
            <a:endParaRPr b="0" lang="en-US" sz="28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Nations in Africa</a:t>
            </a:r>
            <a:endParaRPr b="0" lang="en-US" sz="4000" spc="-1" strike="noStrike">
              <a:solidFill>
                <a:srgbClr val="000000"/>
              </a:solidFill>
              <a:latin typeface="Arial Black"/>
            </a:endParaRPr>
          </a:p>
        </p:txBody>
      </p:sp>
      <p:sp>
        <p:nvSpPr>
          <p:cNvPr id="3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wo independent nations remained in Africa at the turn of the century.</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ia: a small republic founded by American anti-slavery groups for emancipated slav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bysinia (Ethiopia): defeated the Italians at the battle of Adowa in 1896.  This Italian defeat was a great humiliation and was later avenged by Mussolini.</a:t>
            </a:r>
            <a:endParaRPr b="0" lang="en-US" sz="2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ar East</a:t>
            </a:r>
            <a:endParaRPr b="0" lang="en-US" sz="4000" spc="-1" strike="noStrike">
              <a:solidFill>
                <a:srgbClr val="000000"/>
              </a:solidFill>
              <a:latin typeface="Arial Black"/>
            </a:endParaRPr>
          </a:p>
        </p:txBody>
      </p:sp>
      <p:sp>
        <p:nvSpPr>
          <p:cNvPr id="32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hings happened in the far eas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powers took over Burma, Malaya, Indo-china, and the islands of the East Indi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ain consolidated its control over India</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was penetrated but not partitioned by imperialist forces who set up “spheres of influence.”</a:t>
            </a:r>
            <a:endParaRPr b="0" lang="en-US" sz="28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a:t>
            </a:r>
            <a:endParaRPr b="0" lang="en-US" sz="4000" spc="-1" strike="noStrike">
              <a:solidFill>
                <a:srgbClr val="000000"/>
              </a:solidFill>
              <a:latin typeface="Arial Black"/>
            </a:endParaRPr>
          </a:p>
        </p:txBody>
      </p:sp>
      <p:sp>
        <p:nvSpPr>
          <p:cNvPr id="3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Africa: </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by Boers (Dutch)</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14: Britain takes over Cape Colony and trouble breaks out between the British &amp; the Boers who fled NW to escape British rule.</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ers founded the Orange Free State and Transvaal and soon discovered gold in both of the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settlers tried to move in and take over the gold.</a:t>
            </a:r>
            <a:endParaRPr b="0" lang="en-US" sz="28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 cont.</a:t>
            </a:r>
            <a:endParaRPr b="0" lang="en-US" sz="4000" spc="-1" strike="noStrike">
              <a:solidFill>
                <a:srgbClr val="000000"/>
              </a:solidFill>
              <a:latin typeface="Arial Black"/>
            </a:endParaRPr>
          </a:p>
        </p:txBody>
      </p:sp>
      <p:sp>
        <p:nvSpPr>
          <p:cNvPr id="333"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Africa, continued:</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ers tried to restrict the political rights of the British &amp; led to friction </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ecil Rhodes hatched a plan to take over both states, and when it failed, Britain declared war on the 2 state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won the “Boer war,” and eventually the 2 states were granted dominion status, after the other S. African states combined in to the Union of South Africa.</a:t>
            </a:r>
            <a:endParaRPr b="0" lang="en-US" sz="2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a:t>
            </a:r>
            <a:endParaRPr b="0" lang="en-US" sz="4000" spc="-1" strike="noStrike">
              <a:solidFill>
                <a:srgbClr val="000000"/>
              </a:solidFill>
              <a:latin typeface="Arial Black"/>
            </a:endParaRPr>
          </a:p>
        </p:txBody>
      </p:sp>
      <p:sp>
        <p:nvSpPr>
          <p:cNvPr id="3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 The British wanted to control the Suez canal.</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took Egypt from the French after the canal was done (1870’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6: Disraeli purchased 60% of the shares in the canal from Egypt</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7: Egypt became a British Protectorate, but a minority of French investors (who had built the canal) still held stock in the canal (until 1956).</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a:t>
            </a:r>
            <a:endParaRPr b="0" lang="en-US" sz="4000" spc="-1" strike="noStrike">
              <a:solidFill>
                <a:srgbClr val="000000"/>
              </a:solidFill>
              <a:latin typeface="Arial Black"/>
            </a:endParaRPr>
          </a:p>
        </p:txBody>
      </p:sp>
      <p:sp>
        <p:nvSpPr>
          <p:cNvPr id="3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00, Britain  controlled 1/3 of Africa’s land area and over 1/2 of the African population.</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also controlled many islands in the Caribbean and had some colonies in Latin America.</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Britain’s most important colonies was India.</a:t>
            </a:r>
            <a:endParaRPr b="0" lang="en-US" sz="32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ia</a:t>
            </a:r>
            <a:endParaRPr b="0" lang="en-US" sz="4000" spc="-1" strike="noStrike">
              <a:solidFill>
                <a:srgbClr val="000000"/>
              </a:solidFill>
              <a:latin typeface="Arial Black"/>
            </a:endParaRPr>
          </a:p>
        </p:txBody>
      </p:sp>
      <p:sp>
        <p:nvSpPr>
          <p:cNvPr id="339"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Sepoy rebellion (1857), Britain transferred control of India from the Eng. East India Company to the Eng. Government.</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introduced many reforms:</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s, bridges, canals, and railroad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tation</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e law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graph</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al service</a:t>
            </a:r>
            <a:endParaRPr b="0" lang="en-US" sz="28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ia</a:t>
            </a:r>
            <a:endParaRPr b="0" lang="en-US" sz="4000" spc="-1" strike="noStrike">
              <a:solidFill>
                <a:srgbClr val="000000"/>
              </a:solidFill>
              <a:latin typeface="Arial Black"/>
            </a:endParaRPr>
          </a:p>
        </p:txBody>
      </p:sp>
      <p:sp>
        <p:nvSpPr>
          <p:cNvPr id="3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ish rule was resented and many natives wished to expel English rule.</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rganizations were created to rebel against the British.</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he British granted a limited self-rule in 1909, but this didn’t satisfy those who wanted complete independence.</a:t>
            </a:r>
            <a:endParaRPr b="0" lang="en-US" sz="28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 gained dominion status in 1947 under the leadership of Ghandi &amp; Nehru.</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09" name="PlaceHolder 2"/>
          <p:cNvSpPr>
            <a:spLocks noGrp="1"/>
          </p:cNvSpPr>
          <p:nvPr>
            <p:ph/>
          </p:nvPr>
        </p:nvSpPr>
        <p:spPr>
          <a:xfrm>
            <a:off x="0" y="1599840"/>
            <a:ext cx="91440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ly Ordinances dissolved the Chamber, censored the press, restricted voting to only a few rich nobles, and censored freedom of speech &amp; assembly.</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sponse, rioters filled Paris streets and revolution broke ou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Philippe became the new king of France &amp; ruled until 1848.</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extended the right to vote to the upper middle-class.</a:t>
            </a:r>
            <a:endParaRPr b="0" lang="en-US" sz="2800" spc="-1" strike="noStrike">
              <a:solidFill>
                <a:srgbClr val="000000"/>
              </a:solidFill>
              <a:latin typeface="Arial"/>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British Territories</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aid that they would revolt and be lost forever, Britain gradually granted self-government to other colonies, as well.</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a: British N. American Act of 1867 granted dominion status to Canada</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alia: received dominion status in 1900</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Zealand: received dominion status in 1907</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volutions</a:t>
            </a:r>
            <a:endParaRPr b="0" lang="en-US" sz="4000" spc="-1" strike="noStrike">
              <a:solidFill>
                <a:srgbClr val="000000"/>
              </a:solidFill>
              <a:latin typeface="Arial Black"/>
            </a:endParaRPr>
          </a:p>
        </p:txBody>
      </p:sp>
      <p:sp>
        <p:nvSpPr>
          <p:cNvPr id="111"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also occurred in 1830 in Belgium, Poland, parts of Italy, and parts of Germany.</a:t>
            </a:r>
            <a:endParaRPr b="0" lang="en-US" sz="32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gium broke away from the Dutch Republic &amp; set up a Constitutional monarchy.</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nd lost its constitution &amp; Polish cities were occupied by Russian troops</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s in Parma, Modena, and the Papal States were all put down.</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mall German states got constitutions in 1830, but Austria &amp; Prussia made no reform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48</a:t>
            </a:r>
            <a:endParaRPr b="0" lang="en-US" sz="4000" spc="-1" strike="noStrike">
              <a:solidFill>
                <a:srgbClr val="000000"/>
              </a:solidFill>
              <a:latin typeface="Arial Black"/>
            </a:endParaRPr>
          </a:p>
        </p:txBody>
      </p:sp>
      <p:sp>
        <p:nvSpPr>
          <p:cNvPr id="11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occurred in almost every country on the European continent, but few were successful in gaining liberal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s of most 1848 revolutions were: </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blican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mocracy</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The February Revolution</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6-1848: bad harvests &amp; depression led to unemployment &amp; high food prices which hurt the lower classes badly.</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troduction of machinery into French factories, more jobs were lost, and industrial profits began to fall.</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the working class and the middle class were unhappy with Louis Philippe.</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m</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called attention to the plight of the poor in France and the necessity of government action to bring relief.</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planned to end unemployment by creating “National workshops” (social workshops).</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from many sources supported an end to the monarchy.</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groups all agreed that they wanted the resignation of Louis’ chief advisor, Guizot.</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21st, a revolutionary banquet was held without approval, and when the government tried to stop it, the rioters took to the streets and Guizot was forced to flee.</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then abdicated.</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in  Chaos</a:t>
            </a:r>
            <a:endParaRPr b="0" lang="en-US" sz="4000" spc="-1" strike="noStrike">
              <a:solidFill>
                <a:srgbClr val="000000"/>
              </a:solidFill>
              <a:latin typeface="Arial Black"/>
            </a:endParaRPr>
          </a:p>
        </p:txBody>
      </p:sp>
      <p:sp>
        <p:nvSpPr>
          <p:cNvPr id="12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utes over who would rule France came to a head, with the middle class wanting protection of property, the workers wanting economic relief, and the nobility wanting a monarch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hops created by Louis Blanc were a failure, and unemployment continued to ris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iots in June, General Cavaignac made France a temporary dictatorship.</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24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NINETEENTH  CENTURY</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 of change, the Nineteenth century saw the transformation from the Napoleonic period to the modern worl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began with the defeat of Napoleon and ended with an industrialized Europe with new political alliances &amp; great influence in most parts of the world. </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stitution of the 2nd Republic</a:t>
            </a:r>
            <a:endParaRPr b="0" lang="en-US" sz="4000" spc="-1" strike="noStrike">
              <a:solidFill>
                <a:srgbClr val="000000"/>
              </a:solidFill>
              <a:latin typeface="Arial Black"/>
            </a:endParaRPr>
          </a:p>
        </p:txBody>
      </p:sp>
      <p:sp>
        <p:nvSpPr>
          <p:cNvPr id="123" name="PlaceHolder 2"/>
          <p:cNvSpPr>
            <a:spLocks noGrp="1"/>
          </p:cNvSpPr>
          <p:nvPr>
            <p:ph/>
          </p:nvPr>
        </p:nvSpPr>
        <p:spPr>
          <a:xfrm>
            <a:off x="-360" y="1219320"/>
            <a:ext cx="891540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848: The new constitution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Rights (speech, press, religion, assembly, property)</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ed socialism</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meral legislature with three-year term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cy with a four year term.</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Napoleon was elected President of France in Dec. 1848, and became emperor in 1851 (Napoleon III).</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y  in  1848</a:t>
            </a:r>
            <a:endParaRPr b="0" lang="en-US" sz="4000" spc="-1" strike="noStrike">
              <a:solidFill>
                <a:srgbClr val="000000"/>
              </a:solidFill>
              <a:latin typeface="Arial Black"/>
            </a:endParaRPr>
          </a:p>
        </p:txBody>
      </p:sp>
      <p:sp>
        <p:nvSpPr>
          <p:cNvPr id="125" name="PlaceHolder 2"/>
          <p:cNvSpPr>
            <a:spLocks noGrp="1"/>
          </p:cNvSpPr>
          <p:nvPr>
            <p:ph/>
          </p:nvPr>
        </p:nvSpPr>
        <p:spPr>
          <a:xfrm>
            <a:off x="228240" y="1447920"/>
            <a:ext cx="8915400" cy="417168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s and professionals in many German states revolted in 1848 in an attempt to gain the liberal concessions that were previously promised by Prussian King Frederick William IV.</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48, he had created the Zollverein (German Customs Union) to remove internal tariffs and tolls and to stimulate German commerce.</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ollverein united many German states, economically.</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  in  Berlin </a:t>
            </a:r>
            <a:endParaRPr b="0" lang="en-US" sz="4000" spc="-1" strike="noStrike">
              <a:solidFill>
                <a:srgbClr val="000000"/>
              </a:solidFill>
              <a:latin typeface="Arial Black"/>
            </a:endParaRPr>
          </a:p>
        </p:txBody>
      </p:sp>
      <p:sp>
        <p:nvSpPr>
          <p:cNvPr id="127" name="PlaceHolder 2"/>
          <p:cNvSpPr>
            <a:spLocks noGrp="1"/>
          </p:cNvSpPr>
          <p:nvPr>
            <p:ph/>
          </p:nvPr>
        </p:nvSpPr>
        <p:spPr>
          <a:xfrm>
            <a:off x="304560" y="1885680"/>
            <a:ext cx="883908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liberals revolted and forced Fred Will to accept their demands.  </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called a constitutional assembly, the Frankfurt Assembly, to strengthen the German confederation. They couldn’t agree on which German states to include or whether to have a republic or a monarch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opposed any sort of constitution for the confederacy.</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rankfurt  Assembly</a:t>
            </a:r>
            <a:endParaRPr b="0" lang="en-US" sz="4000" spc="-1" strike="noStrike">
              <a:solidFill>
                <a:srgbClr val="000000"/>
              </a:solidFill>
              <a:latin typeface="Arial Black"/>
            </a:endParaRPr>
          </a:p>
        </p:txBody>
      </p:sp>
      <p:sp>
        <p:nvSpPr>
          <p:cNvPr id="129"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mbly finally wrote a constitution which called for a liberal constitutional monarchy.  </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offered the crown of Germany to Frederick, he refused to take it, saying he “wouldn’t accept the imperial crown from the gutter.”</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nded the assembly and any hopes of liberal reform.</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lasting result: more states joined the Zollverein.</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was divided into several small states, most of whom were occupied by foreign power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nationalists wanted unification and formed secret societies such as the carbonari and Mazzini’s Young Ital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orgimento” (revival of nationalist pride ) drove the revolution of 1848.</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1848: revolts broke out in the Papal states, Tuscany, Naples, and Sardinia, and these rulers granted liberal constitution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mbardy-Venetia revolted against Austria and Naples, Sardinia, and the Pope sent troops to help them.  In the process, Sardinia annexed L-V, Parma, and Modena.</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talian states then withdrew their support of LV and Austria regained control.</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oman Republic</a:t>
            </a:r>
            <a:endParaRPr b="0" lang="en-US" sz="4000" spc="-1" strike="noStrike">
              <a:solidFill>
                <a:srgbClr val="000000"/>
              </a:solidFill>
              <a:latin typeface="Arial Black"/>
            </a:endParaRPr>
          </a:p>
        </p:txBody>
      </p:sp>
      <p:sp>
        <p:nvSpPr>
          <p:cNvPr id="135" name="PlaceHolder 2"/>
          <p:cNvSpPr>
            <a:spLocks noGrp="1"/>
          </p:cNvSpPr>
          <p:nvPr>
            <p:ph/>
          </p:nvPr>
        </p:nvSpPr>
        <p:spPr>
          <a:xfrm>
            <a:off x="0" y="1447920"/>
            <a:ext cx="9144000" cy="417168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appeared that Austria was going to defeat any chance at Italian unification and independence, radical revolution broke out in Rome &amp; Sardinia.</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ibaldi &amp; Mazzini ousted the Pope &amp; proclaimed a democratic republic in Rome.  In Sardinia, the king was forced to continue fighting the Austrian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s defeated Sardinia, and Napoleon III sent troops to reinstate the Pope.</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7" name="PlaceHolder 2"/>
          <p:cNvSpPr>
            <a:spLocks noGrp="1"/>
          </p:cNvSpPr>
          <p:nvPr>
            <p:ph/>
          </p:nvPr>
        </p:nvSpPr>
        <p:spPr>
          <a:xfrm>
            <a:off x="457200" y="2133720"/>
            <a:ext cx="830592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 empire included a large number of ethnic minorities within its borders.  Their individual nationality was suppressed by the empir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March Days,” revolts occurred in Italy, Hungary, Bohemia, &amp; Austria itself.</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9" name="PlaceHolder 2"/>
          <p:cNvSpPr>
            <a:spLocks noGrp="1"/>
          </p:cNvSpPr>
          <p:nvPr>
            <p:ph/>
          </p:nvPr>
        </p:nvSpPr>
        <p:spPr>
          <a:xfrm>
            <a:off x="380520" y="220932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olutions were led by a minority of intellectuals, students, and labor leaders and were not widely supported by the majority of the peopl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sting result was the abdication of Metternich.</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ngary</a:t>
            </a:r>
            <a:endParaRPr b="0" lang="en-US" sz="4000" spc="-1" strike="noStrike">
              <a:solidFill>
                <a:srgbClr val="000000"/>
              </a:solidFill>
              <a:latin typeface="Arial Black"/>
            </a:endParaRPr>
          </a:p>
        </p:txBody>
      </p:sp>
      <p:sp>
        <p:nvSpPr>
          <p:cNvPr id="14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ungary, Louis Kossuth led a revolt in the Hungarian Diet which made Hungary autonomous while accepting the emperor as the king of Hungary. He outlawed serfdom, forced the nobility to pay taxes, and required public officials to speak Hungarian.</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Kossuth continued to oppress Slavic minorities in Hungary, Russia helped Austria put down the Hungarian revolt.</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gress of Vienna</a:t>
            </a:r>
            <a:endParaRPr b="0" lang="en-US" sz="4000" spc="-1" strike="noStrike">
              <a:solidFill>
                <a:srgbClr val="000000"/>
              </a:solidFill>
              <a:latin typeface="Arial Black"/>
            </a:endParaRPr>
          </a:p>
        </p:txBody>
      </p:sp>
      <p:sp>
        <p:nvSpPr>
          <p:cNvPr id="89"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s included:</a:t>
            </a:r>
            <a:endParaRPr b="0" lang="en-US" sz="32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the spoils of war</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a settlement to return Europe, as closely as possible to the way it was before the French revolution</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of conservatism &amp; suppression of liberalism &amp; divisive nationalism</a:t>
            </a:r>
            <a:endParaRPr b="0" lang="en-US" sz="2800" spc="-1" strike="noStrike">
              <a:solidFill>
                <a:srgbClr val="000000"/>
              </a:solidFill>
              <a:latin typeface="Arial"/>
            </a:endParaRPr>
          </a:p>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4 = England (Castlereagh), Russia      (Alexander I), Prussia (Fred. Will. II), &amp; Austria (Metternich).</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NDUSTRIAL REVOLUTION</a:t>
            </a:r>
            <a:endParaRPr b="0" lang="en-US" sz="4000" spc="-1" strike="noStrike">
              <a:solidFill>
                <a:srgbClr val="000000"/>
              </a:solidFill>
              <a:latin typeface="Arial Black"/>
            </a:endParaRPr>
          </a:p>
        </p:txBody>
      </p:sp>
      <p:sp>
        <p:nvSpPr>
          <p:cNvPr id="14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trial revolution began in England in the mid 18th century, but many of its effects were not felt on the continent until the 19th centur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e widespread use of machinery that characterized the industrial revolution, because the output of products accelerated so enormously by the substitution of machines for human labor in manufacturing.</a:t>
            </a: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uses of Industrialism</a:t>
            </a:r>
            <a:endParaRPr b="0" lang="en-US" sz="4000" spc="-1" strike="noStrike">
              <a:solidFill>
                <a:srgbClr val="000000"/>
              </a:solidFill>
              <a:latin typeface="Arial Black"/>
            </a:endParaRPr>
          </a:p>
        </p:txBody>
      </p:sp>
      <p:sp>
        <p:nvSpPr>
          <p:cNvPr id="145"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capital due to growth of capitalism &amp; trad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 work ethic  and new attitudes toward change caused by the Enlightenme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caused an increased need for good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ure acts provided cheap labor &amp; urbanization.</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ustrial Rev. in England</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in England because:</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for manufactured goods due to wealth of the upper and middle class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natural resourc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workers (Eng. Population doubled between 1700 &amp; 1800).</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materials from its coloni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ts with investment money</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 government ready to further the interests of the capitalists</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ason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intellectuals urged a free trade poli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guild restriction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for market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l suprema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ment of inventions (patents, copyrights, etc).</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banking systems</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 in Production</a:t>
            </a:r>
            <a:endParaRPr b="0" lang="en-US" sz="4000" spc="-1" strike="noStrike">
              <a:solidFill>
                <a:srgbClr val="000000"/>
              </a:solidFill>
              <a:latin typeface="Arial Black"/>
            </a:endParaRPr>
          </a:p>
        </p:txBody>
      </p:sp>
      <p:sp>
        <p:nvSpPr>
          <p:cNvPr id="151" name="PlaceHolder 2"/>
          <p:cNvSpPr>
            <a:spLocks noGrp="1"/>
          </p:cNvSpPr>
          <p:nvPr>
            <p:ph/>
          </p:nvPr>
        </p:nvSpPr>
        <p:spPr>
          <a:xfrm>
            <a:off x="380520" y="152352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ile industry 1st to industrializ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thods of iron, coal, and steel produc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ources of power (steam engi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communication &amp; transportation (Railroads &amp; canals &amp; telegraph)</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al revolu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system</a:t>
            </a: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tiles</a:t>
            </a:r>
            <a:endParaRPr b="0" lang="en-US" sz="4000" spc="-1" strike="noStrike">
              <a:solidFill>
                <a:srgbClr val="000000"/>
              </a:solidFill>
              <a:latin typeface="Arial Black"/>
            </a:endParaRPr>
          </a:p>
        </p:txBody>
      </p:sp>
      <p:sp>
        <p:nvSpPr>
          <p:cNvPr id="153" name="PlaceHolder 2"/>
          <p:cNvSpPr>
            <a:spLocks noGrp="1"/>
          </p:cNvSpPr>
          <p:nvPr>
            <p:ph/>
          </p:nvPr>
        </p:nvSpPr>
        <p:spPr>
          <a:xfrm>
            <a:off x="0" y="1142640"/>
            <a:ext cx="9144000" cy="4172040"/>
          </a:xfrm>
          <a:prstGeom prst="rect">
            <a:avLst/>
          </a:prstGeom>
          <a:noFill/>
          <a:ln w="0">
            <a:noFill/>
          </a:ln>
        </p:spPr>
        <p:txBody>
          <a:bodyPr lIns="90000" rIns="90000" tIns="46800" bIns="4680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market for cotton cloth.  Therefore, great efforts were made to increase the amount of cotton cloth produced in England.</a:t>
            </a:r>
            <a:endParaRPr b="0" lang="en-US" sz="3200" spc="-1" strike="noStrike">
              <a:solidFill>
                <a:srgbClr val="000000"/>
              </a:solidFill>
              <a:latin typeface="Arial"/>
            </a:endParaRPr>
          </a:p>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ons:</a:t>
            </a:r>
            <a:endParaRPr b="0" lang="en-US" sz="32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shuttle: increased speed of weaving</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Jenny: spun cotton fiber faster</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rame: spun cotton fiber quickly &amp; produced a finer thread.</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mule: combined frame &amp; jenn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loom: wove automaticall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on gin: separated cotton fiber from seeds</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 smelted with coal, not charcoal</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m Engine (James Watt) powered factori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roads, canals, &amp; steam locomotiv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graph &amp; telepho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banking &amp; credit system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ank of England could issue bank notes</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ench and German Industrialization</a:t>
            </a: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arly 19th century, industrialization spread to France.  </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experienced its greatest period of industrial growth from 1850 - 1870.</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was hampered by guild restrictions, poor transportation, &amp; lack of unification.</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began by mid century, but was greatest after 1871.</a:t>
            </a: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Changes</a:t>
            </a:r>
            <a:endParaRPr b="0" lang="en-US" sz="4000" spc="-1" strike="noStrike">
              <a:solidFill>
                <a:srgbClr val="000000"/>
              </a:solidFill>
              <a:latin typeface="Arial Black"/>
            </a:endParaRPr>
          </a:p>
        </p:txBody>
      </p:sp>
      <p:sp>
        <p:nvSpPr>
          <p:cNvPr id="159" name="PlaceHolder 2"/>
          <p:cNvSpPr>
            <a:spLocks noGrp="1"/>
          </p:cNvSpPr>
          <p:nvPr>
            <p:ph/>
          </p:nvPr>
        </p:nvSpPr>
        <p:spPr>
          <a:xfrm>
            <a:off x="228240" y="1885680"/>
            <a:ext cx="89154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British population tripled between 1800 &amp; 1900.</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ization led to more influence by the middle class &amp; eventually the working clas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down of the family as cottage industries are replaced by the factory system.</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ed aristocracy threatened by the growing wealth &amp; power of the industrialists.</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Labor</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received low, often subsistence,  wages &amp; worked in often unsafe condition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women, and children often worked 16-18 hour days.</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es rose on the average of about 2% per year in the 1800’s in industrial jobs in England.</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rns of the Congress</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53452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of Power (checks &amp; balances): Wanted to make sure no single power could dominate Europe as France had don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cy: wanted the restoration of monarchies &amp; the return of all original lands (baseline = 1792)</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mnity: France paid 700 million Francs to support an army of occupation until 1820.</a:t>
            </a: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abor  Conditions</a:t>
            </a:r>
            <a:endParaRPr b="0" lang="en-US" sz="4000" spc="-1" strike="noStrike">
              <a:solidFill>
                <a:srgbClr val="000000"/>
              </a:solidFill>
              <a:latin typeface="Arial Black"/>
            </a:endParaRPr>
          </a:p>
        </p:txBody>
      </p:sp>
      <p:sp>
        <p:nvSpPr>
          <p:cNvPr id="163"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workers followed three methods to improve their conditions:</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ce: some sabotaged machines &amp; killed bosses, but this was not successful in changing condition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s: Unions were initially outlawed in England &amp; France, but were finally successful by the late 1800’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Agitation: Chartism &amp; general agitation led to reforms, such as the factory act, the mines act, and the 10 hours bil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lassical Economist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2209320"/>
            <a:ext cx="838188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Smith: 1776: </a:t>
            </a:r>
            <a:r>
              <a:rPr b="0" lang="en-US" sz="3200" spc="-1" strike="noStrike" u="sng">
                <a:solidFill>
                  <a:srgbClr val="000000"/>
                </a:solidFill>
                <a:uFillTx/>
                <a:latin typeface="Arial"/>
              </a:rPr>
              <a:t>The Wealth of Na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ndividuals working for their own self-interest would benefit the economy better than mercantilist polici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visible hand” of supply &amp; demand should dictate prices &amp; production.</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ssez-faire economics (early capitalism)</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Malthus: </a:t>
            </a:r>
            <a:r>
              <a:rPr b="0" lang="en-US" sz="3200" spc="-1" strike="noStrike" u="sng">
                <a:solidFill>
                  <a:srgbClr val="000000"/>
                </a:solidFill>
                <a:uFillTx/>
                <a:latin typeface="Arial"/>
              </a:rPr>
              <a:t>Essay on Population</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pulation grew geometrically, while the food supply grew arithmetically, thus eventually leading to famine &amp;/or war which would check population growth.</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or should limit their offspring if they wanted to improve their standard of living.</a:t>
            </a:r>
            <a:endParaRPr b="0"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9"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Ricardo: </a:t>
            </a:r>
            <a:r>
              <a:rPr b="0" lang="en-US" sz="3200" spc="-1" strike="noStrike" u="sng">
                <a:solidFill>
                  <a:srgbClr val="000000"/>
                </a:solidFill>
                <a:uFillTx/>
                <a:latin typeface="Arial"/>
              </a:rPr>
              <a:t>The Principles of Political Economy:</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ron law of wages:” there is a point where the market wage will constantly tend to approach the natural wage.  If you pay a market wage below the natural wage (what workers need to survive), they will die off &amp; a smaller labor pool can demand higher wages.  If you pay a market wage significantly more than the natural wage, they will have more kids &amp; their standard of living will drop.</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capitalism.</a:t>
            </a:r>
            <a:endParaRPr b="0"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Bentham: Utilitarianism: </a:t>
            </a:r>
            <a:endParaRPr b="0" lang="en-US" sz="32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economics but wanted policies which would effect the “greatest good for the greatest number.”</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f an individual harmed the common good by acting in his own self-interest, then the government should step in.  </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believed that government could step in to pay for research &amp; development &amp; education.</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iberalism</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Stuart Mill: </a:t>
            </a:r>
            <a:r>
              <a:rPr b="0" lang="en-US" sz="3200" spc="-1" strike="noStrike" u="sng">
                <a:solidFill>
                  <a:srgbClr val="000000"/>
                </a:solidFill>
                <a:uFillTx/>
                <a:latin typeface="Arial"/>
              </a:rPr>
              <a:t>On Liberty</a:t>
            </a:r>
            <a:r>
              <a:rPr b="0" lang="en-US" sz="3200" spc="-1" strike="noStrike">
                <a:solidFill>
                  <a:srgbClr val="000000"/>
                </a:solidFill>
                <a:latin typeface="Arial"/>
              </a:rPr>
              <a:t>; </a:t>
            </a:r>
            <a:r>
              <a:rPr b="0" lang="en-US" sz="3200" spc="-1" strike="noStrike" u="sng">
                <a:solidFill>
                  <a:srgbClr val="000000"/>
                </a:solidFill>
                <a:uFillTx/>
                <a:latin typeface="Arial"/>
              </a:rPr>
              <a:t>Principles of Political Economy</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s Principle: Persons should have complete freedom of action, speech, etc. as long as their actions do not harm others.  If they cause harm, then the gov’t should stop them.</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 the tyranny of the majority.</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ll, continued</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 served in Parliament for a time and championed the following causes:</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suffrage</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workers to organize into un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legislation to improve working condit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suffrage (for all men &amp; women over 21)</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educatio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political/economic rights for wome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 representation.</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arly Socialists</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can be defined as an economic system in which the means of production, exchange, and distribution are owned by the state rather than private individual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bolish the abuses of capitalism by promoting collectiv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ranged from strictly economic reform in the context of a democratic government to the extreme of Marxism.</a:t>
            </a: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offered no practical plan for achieving the ideal societies they envisioned and thought industrialists would support their ideas as soon as they saw their merit.</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developed independently in France and England in the 19th century.</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nt-Simon: (1760-1825): French:</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d the abolition of private property and the development of an industrial state under the direction of a board of directors made up of scientists &amp; skilled businessmen who would work for the betterment of all people, including the working clas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little practical impact</a:t>
            </a:r>
            <a:endParaRPr b="0" lang="en-US" sz="28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rre Proudhon: French: “Property is Theft.” Influenced Karl Marx.</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liance System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rt of Europe consisted of several alliances with the purpose of maintaining the conservative settlement designed by the COV.</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ncluded:</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ly Alliance</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druple Alliance (Eng, Austria, Prussia, and Russia) </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intuple Alliance (Quadruple alliance joined by France in 1818)</a:t>
            </a:r>
            <a:endParaRPr b="0" lang="en-US" sz="2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Fourier (1772-1837): French:</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for a society made up of small cooperative communities called phalanxes in which economic competition would be eliminated &amp; all work done voluntarily.</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his society would live in communal dwelling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idealistic &amp; failed in his attempts.</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5" name="PlaceHolder 2"/>
          <p:cNvSpPr>
            <a:spLocks noGrp="1"/>
          </p:cNvSpPr>
          <p:nvPr>
            <p:ph/>
          </p:nvPr>
        </p:nvSpPr>
        <p:spPr>
          <a:xfrm>
            <a:off x="0" y="1447920"/>
            <a:ext cx="914400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Owen: (1771-1858): successful English industrialist</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vironmental factors influenced people and thought factories and communities needed to be clean, and provide decent wages.  </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outlaw child labor &amp; provide mandatory education.</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model cotton mill in Scotland, but failed in his attempts in Indiana.</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 lot to popularize the need for social reform in England.</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7" name="PlaceHolder 2"/>
          <p:cNvSpPr>
            <a:spLocks noGrp="1"/>
          </p:cNvSpPr>
          <p:nvPr>
            <p:ph/>
          </p:nvPr>
        </p:nvSpPr>
        <p:spPr>
          <a:xfrm>
            <a:off x="0" y="1447920"/>
            <a:ext cx="9144000" cy="417168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French: (1811 - 1882) organized a socialist political party to achieve socialist measures in France.</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governments have the duty of providing workers with farms and shops to replace privately owned ones. He called these national workshops.</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uld be run by the workers for their own good.</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democratic government.</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mined by the provisional gov’t in 1848.</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ristian Socialists</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eople wanted to apply the principles of the Christian religion to the quest for social &amp; economic reform.</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e Leo XIII: wrote </a:t>
            </a:r>
            <a:r>
              <a:rPr b="0" lang="en-US" sz="3200" spc="-1" strike="noStrike" u="sng">
                <a:solidFill>
                  <a:srgbClr val="000000"/>
                </a:solidFill>
                <a:uFillTx/>
                <a:latin typeface="Arial"/>
              </a:rPr>
              <a:t>Rerum Novarum</a:t>
            </a:r>
            <a:r>
              <a:rPr b="0" lang="en-US" sz="3200" spc="-1" strike="noStrike">
                <a:solidFill>
                  <a:srgbClr val="000000"/>
                </a:solidFill>
                <a:latin typeface="Arial"/>
              </a:rPr>
              <a:t> in 1891 </a:t>
            </a:r>
            <a:endParaRPr b="0" lang="en-US" sz="32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d fair treatment of workers &amp; the need for social reform.  </a:t>
            </a:r>
            <a:endParaRPr b="0" lang="en-US" sz="28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d the foundation of Christian labor unions.</a:t>
            </a:r>
            <a:endParaRPr b="0" lang="en-US" sz="2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ristian Socialists</a:t>
            </a:r>
            <a:endParaRPr b="0" lang="en-US" sz="4000" spc="-1" strike="noStrike">
              <a:solidFill>
                <a:srgbClr val="000000"/>
              </a:solidFill>
              <a:latin typeface="Arial Black"/>
            </a:endParaRPr>
          </a:p>
        </p:txBody>
      </p:sp>
      <p:sp>
        <p:nvSpPr>
          <p:cNvPr id="1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Kingsley: (1819 - 1875) Novelis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end sweatshop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ed the importance of boycotts in obtaining relief from capitalists abus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ed the need for brotherly love as the basis of all reform</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d the British Parliament to pass social legislation to help the working class.</a:t>
            </a:r>
            <a:endParaRPr b="0" lang="en-US" sz="2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xism</a:t>
            </a:r>
            <a:endParaRPr b="0" lang="en-US" sz="4000" spc="-1" strike="noStrike">
              <a:solidFill>
                <a:srgbClr val="000000"/>
              </a:solidFill>
              <a:latin typeface="Arial Black"/>
            </a:endParaRPr>
          </a:p>
        </p:txBody>
      </p:sp>
      <p:sp>
        <p:nvSpPr>
          <p:cNvPr id="193"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ed by Marx &amp; Engels, it was a militant form of socialism which is often called Communism.</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 and Engels asserted their ideas in </a:t>
            </a:r>
            <a:r>
              <a:rPr b="0" lang="en-US" sz="3200" spc="-1" strike="noStrike" u="sng">
                <a:solidFill>
                  <a:srgbClr val="000000"/>
                </a:solidFill>
                <a:uFillTx/>
                <a:latin typeface="Arial"/>
              </a:rPr>
              <a:t>The Communist Manifesto</a:t>
            </a:r>
            <a:r>
              <a:rPr b="0" lang="en-US" sz="3200" spc="-1" strike="noStrike">
                <a:solidFill>
                  <a:srgbClr val="000000"/>
                </a:solidFill>
                <a:latin typeface="Arial"/>
              </a:rPr>
              <a:t> (1848) and </a:t>
            </a:r>
            <a:r>
              <a:rPr b="0" lang="en-US" sz="3200" spc="-1" strike="noStrike" u="sng">
                <a:solidFill>
                  <a:srgbClr val="000000"/>
                </a:solidFill>
                <a:uFillTx/>
                <a:latin typeface="Arial"/>
              </a:rPr>
              <a:t>Das Kapital</a:t>
            </a:r>
            <a:r>
              <a:rPr b="0" lang="en-US" sz="3200" spc="-1" strike="noStrike">
                <a:solidFill>
                  <a:srgbClr val="000000"/>
                </a:solidFill>
                <a:latin typeface="Arial"/>
              </a:rPr>
              <a:t> (1867).</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d from other forms of socialism because it called for a revolutionary overthrow of the existing system.  No accommodation. </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xist  Ideas</a:t>
            </a:r>
            <a:endParaRPr b="0" lang="en-US" sz="4000" spc="-1" strike="noStrike">
              <a:solidFill>
                <a:srgbClr val="000000"/>
              </a:solidFill>
              <a:latin typeface="Arial Black"/>
            </a:endParaRPr>
          </a:p>
        </p:txBody>
      </p:sp>
      <p:sp>
        <p:nvSpPr>
          <p:cNvPr id="19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must be interpreted economically.</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factors shape the institutions of civilization, such as religion &amp; politics.</a:t>
            </a:r>
            <a:endParaRPr b="0" lang="en-US" sz="28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lus Value: the value of all commodities is a result of the labor put into them.</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worker gets paid less than the labor he put into a product, he is being exploited.</a:t>
            </a:r>
            <a:endParaRPr b="0" lang="en-US" sz="28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istory is a constant series of class struggles” between the exploited &amp; the exploiters.</a:t>
            </a:r>
            <a:endParaRPr b="0"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arxist Ideas</a:t>
            </a:r>
            <a:endParaRPr b="0" lang="en-US" sz="4000" spc="-1" strike="noStrike">
              <a:solidFill>
                <a:srgbClr val="000000"/>
              </a:solidFill>
              <a:latin typeface="Arial Black"/>
            </a:endParaRPr>
          </a:p>
        </p:txBody>
      </p:sp>
      <p:sp>
        <p:nvSpPr>
          <p:cNvPr id="197"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ectic: Thesis, Antithesis, Synthesis.  </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is process would continue inevitably until Communism was established.  Then there would be no more opposition to the new system.</a:t>
            </a:r>
            <a:endParaRPr b="0" lang="en-US" sz="28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ism: </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no God or divine presence and believed that all things happened mechanically with no divine guiding principle.</a:t>
            </a:r>
            <a:endParaRPr b="0" lang="en-US" sz="28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ism is also called Dialectical Materialism.</a:t>
            </a: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arxist Ideas</a:t>
            </a:r>
            <a:endParaRPr b="0" lang="en-US" sz="4000" spc="-1" strike="noStrike">
              <a:solidFill>
                <a:srgbClr val="000000"/>
              </a:solidFill>
              <a:latin typeface="Arial Black"/>
            </a:endParaRPr>
          </a:p>
        </p:txBody>
      </p:sp>
      <p:sp>
        <p:nvSpPr>
          <p:cNvPr id="199" name="PlaceHolder 2"/>
          <p:cNvSpPr>
            <a:spLocks noGrp="1"/>
          </p:cNvSpPr>
          <p:nvPr>
            <p:ph/>
          </p:nvPr>
        </p:nvSpPr>
        <p:spPr>
          <a:xfrm>
            <a:off x="533160" y="1676520"/>
            <a:ext cx="8178840" cy="417168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 is a necessary step in the eventual development of Communism.</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 in which the proletariat overthrows the bourgeoisie is inevitable but must be led by Marxist intellectuals called the “vanguard of the revolu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mporary “dictatorship of the proletariat must be established after the revolution to reorder society. </a:t>
            </a:r>
            <a:endParaRPr b="0" lang="en-US" sz="32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arxist  Ideas</a:t>
            </a:r>
            <a:endParaRPr b="0" lang="en-US" sz="4000" spc="-1" strike="noStrike">
              <a:solidFill>
                <a:srgbClr val="000000"/>
              </a:solidFill>
              <a:latin typeface="Arial Black"/>
            </a:endParaRPr>
          </a:p>
        </p:txBody>
      </p:sp>
      <p:sp>
        <p:nvSpPr>
          <p:cNvPr id="20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 envisioned a situation in which workers all over the world would eventually overthrow their existing conditions and create Communist societi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s had occurred, he believed there would be no need for governments and predicted the “withering of the stat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the principle “From each acc. to his ability, to each acc. to his need.”</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ults of the Congress of Vienna</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t of Europe put down revolts in Italy &amp; Spain in the early 1820’s, but broke down by 1825 due to the fact that England was not as conservative as the rest of the members &amp; pulled out.</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d conservatism was challenged by the forces of liberalism, &amp; nationalism.</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settlements later led to the revolutions of 1848.</a:t>
            </a: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ist Parties Pre-WWI </a:t>
            </a:r>
            <a:endParaRPr b="0" lang="en-US" sz="4000" spc="-1" strike="noStrike">
              <a:solidFill>
                <a:srgbClr val="000000"/>
              </a:solidFill>
              <a:latin typeface="Arial Black"/>
            </a:endParaRPr>
          </a:p>
        </p:txBody>
      </p:sp>
      <p:sp>
        <p:nvSpPr>
          <p:cNvPr id="2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International: founded in 1864 in London: followed Marxist ideas, but finally disbanded.</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Social Democratic Party: advocated many Marxist ideas &amp; gained a large number of seats in the Reichstag.</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bian Society: Britain: formed to spread socialist ideas.  Its members later formed the modern Labor party.</a:t>
            </a:r>
            <a:endParaRPr b="0"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archism</a:t>
            </a:r>
            <a:endParaRPr b="0" lang="en-US" sz="4000" spc="-1" strike="noStrike">
              <a:solidFill>
                <a:srgbClr val="000000"/>
              </a:solidFill>
              <a:latin typeface="Arial Black"/>
            </a:endParaRPr>
          </a:p>
        </p:txBody>
      </p:sp>
      <p:sp>
        <p:nvSpPr>
          <p:cNvPr id="2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ed at destroying governments ASAP usually by the use of force because governments always restricted human liberty.</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 Kropotkin: Russian: wanted to abolish private property &amp; gov’t non-violently.  Wanted a loose communistic social organization to replace the government. </a:t>
            </a:r>
            <a:endParaRPr b="0" lang="en-US" sz="2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archism</a:t>
            </a:r>
            <a:endParaRPr b="0" lang="en-US" sz="4000" spc="-1" strike="noStrike">
              <a:solidFill>
                <a:srgbClr val="000000"/>
              </a:solidFill>
              <a:latin typeface="Arial Black"/>
            </a:endParaRPr>
          </a:p>
        </p:txBody>
      </p:sp>
      <p:sp>
        <p:nvSpPr>
          <p:cNvPr id="2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khail Bakunin: Russian: </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groups all over Europe to stage an international revolution to destroy the gov’ts of Europe.</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d terrorist acts until the time was right for a general strike/revolution.</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the assassinations of a number of world leaders.</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a socialist economy established.</a:t>
            </a:r>
            <a:endParaRPr b="0" lang="en-US" sz="28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9th Century British Problems</a:t>
            </a:r>
            <a:endParaRPr b="0" lang="en-US" sz="4000" spc="-1" strike="noStrike">
              <a:solidFill>
                <a:srgbClr val="0000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ded Aristocracy still monopolized political power due to voting restrictions (10% of adult males could vote in England in 1848).</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ten Boroughs kept industrial centers from being fairly represented (Manchester had no representatives at all in 1800)</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 </a:t>
            </a:r>
            <a:endParaRPr b="0" lang="en-US" sz="32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Problems</a:t>
            </a:r>
            <a:endParaRPr b="0" lang="en-US" sz="4000" spc="-1" strike="noStrike">
              <a:solidFill>
                <a:srgbClr val="000000"/>
              </a:solidFill>
              <a:latin typeface="Arial Black"/>
            </a:endParaRPr>
          </a:p>
        </p:txBody>
      </p:sp>
      <p:sp>
        <p:nvSpPr>
          <p:cNvPr id="2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amp; religious qualifications restricted the right to hold political office. </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alaries for the members of the House of Common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Lords could block all legislation passed by the House of Commons except for revenue bills.</a:t>
            </a:r>
            <a:endParaRPr b="0" lang="en-US" sz="32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tish Reforms</a:t>
            </a:r>
            <a:endParaRPr b="0" lang="en-US" sz="4000" spc="-1" strike="noStrike">
              <a:solidFill>
                <a:srgbClr val="000000"/>
              </a:solidFill>
              <a:latin typeface="Arial Black"/>
            </a:endParaRPr>
          </a:p>
        </p:txBody>
      </p:sp>
      <p:sp>
        <p:nvSpPr>
          <p:cNvPr id="2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s: Combination Code (that suppressed unions) was repealed &amp; the Criminal Code was reformed.</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Catholic Emancipation Act: permitted Catholics to hold an elected public offic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3: Slavery abolished in the British Empire</a:t>
            </a:r>
            <a:endParaRPr b="0" lang="en-US" sz="32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51920"/>
            <a:ext cx="8610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Great Reform Bill of 1832</a:t>
            </a:r>
            <a:endParaRPr b="0" lang="en-US" sz="4000" spc="-1" strike="noStrike">
              <a:solidFill>
                <a:srgbClr val="000000"/>
              </a:solidFill>
              <a:latin typeface="Arial Black"/>
            </a:endParaRPr>
          </a:p>
        </p:txBody>
      </p:sp>
      <p:sp>
        <p:nvSpPr>
          <p:cNvPr id="215" name="PlaceHolder 2"/>
          <p:cNvSpPr>
            <a:spLocks noGrp="1"/>
          </p:cNvSpPr>
          <p:nvPr>
            <p:ph/>
          </p:nvPr>
        </p:nvSpPr>
        <p:spPr>
          <a:xfrm>
            <a:off x="0" y="990720"/>
            <a:ext cx="914400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ed by the Whigs, this bill yielded to the demands of the middle clas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suffrage to most of the middle class and small land owners, but still denied it to most urban workers &amp; peasan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for redistricting to eliminate rotten borough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more power to the House of Commons</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being threatened with the creation of new Whig peers, the House of Lords passed the bill.</a:t>
            </a:r>
            <a:endParaRPr b="0" lang="en-US" sz="32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217"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d in the 1830’s by city workers to achieve political reforms and improve their living condition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rter demand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operty qualifications for Parliamen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electoral distric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ballo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Parliamentary election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ies for Parliament</a:t>
            </a:r>
            <a:endParaRPr b="0" lang="en-US" sz="28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2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ists pushed their demands throughout the 1840’s and the movement culminated with a march of 50,000 protesters in 1848.</a:t>
            </a:r>
            <a:endParaRPr b="0" lang="en-US" sz="3200" spc="-1" strike="noStrike">
              <a:solidFill>
                <a:srgbClr val="000000"/>
              </a:solidFill>
              <a:latin typeface="Arial"/>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Parliament refused to give in to Chartist demands (as a whole package), most of their demands were met through reform legislation, and the movement died out.</a:t>
            </a:r>
            <a:endParaRPr b="0" lang="en-US" sz="32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1"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Reform Bill of 1867: reduced property qualifications so that most urban workers could vote</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Benjamin Disraeli, the Conservative Party leader who wanted to take credit for the reform.</a:t>
            </a:r>
            <a:endParaRPr b="0" lang="en-US" sz="28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 Act of 1872: secret ballot introduced</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884: extended suffrage to most peasants.</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the Liberal Leader, Gladstone.</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30</a:t>
            </a:r>
            <a:endParaRPr b="0" lang="en-US" sz="4000" spc="-1" strike="noStrike">
              <a:solidFill>
                <a:srgbClr val="000000"/>
              </a:solidFill>
              <a:latin typeface="Arial Black"/>
            </a:endParaRPr>
          </a:p>
        </p:txBody>
      </p:sp>
      <p:sp>
        <p:nvSpPr>
          <p:cNvPr id="97" name="PlaceHolder 2"/>
          <p:cNvSpPr>
            <a:spLocks noGrp="1"/>
          </p:cNvSpPr>
          <p:nvPr>
            <p:ph/>
          </p:nvPr>
        </p:nvSpPr>
        <p:spPr>
          <a:xfrm>
            <a:off x="456840" y="1447920"/>
            <a:ext cx="8178840" cy="417168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1814--restoration of King Ferdinand VII:  revived the old regime &amp; the inquisition.</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Ferdinand ordered his army to attack &amp; recapture former Sp. Colonies in Latin Am., &amp; the army mutinied.</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dinand had to restore the Napoleonic constitution of 1812.</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3: Louis VIII sent troops to restore Ferd VII after another revolt.</a:t>
            </a: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3" name="PlaceHolder 2"/>
          <p:cNvSpPr>
            <a:spLocks noGrp="1"/>
          </p:cNvSpPr>
          <p:nvPr>
            <p:ph/>
          </p:nvPr>
        </p:nvSpPr>
        <p:spPr>
          <a:xfrm>
            <a:off x="0" y="1599840"/>
            <a:ext cx="914400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liament Act of 1911: Weakened the House of Lords by giving it only a temporary veto over bills passed in the House of Commons.</a:t>
            </a:r>
            <a:endParaRPr b="0" lang="en-US" sz="32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bills could be delayed only 30 days.</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bills could be delayed up to two years.</a:t>
            </a:r>
            <a:endParaRPr b="0" lang="en-US" sz="28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918: Extended Suffrage to British women over 30 years of age.</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928: Women over 21 could vote.</a:t>
            </a:r>
            <a:endParaRPr b="0" lang="en-US" sz="32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tish Economic/Social Reforms</a:t>
            </a:r>
            <a:endParaRPr b="0" lang="en-US" sz="4000" spc="-1" strike="noStrike">
              <a:solidFill>
                <a:srgbClr val="000000"/>
              </a:solidFill>
              <a:latin typeface="Arial Black"/>
            </a:endParaRPr>
          </a:p>
        </p:txBody>
      </p:sp>
      <p:sp>
        <p:nvSpPr>
          <p:cNvPr id="225" name="PlaceHolder 2"/>
          <p:cNvSpPr>
            <a:spLocks noGrp="1"/>
          </p:cNvSpPr>
          <p:nvPr>
            <p:ph/>
          </p:nvPr>
        </p:nvSpPr>
        <p:spPr>
          <a:xfrm>
            <a:off x="456840" y="2133720"/>
            <a:ext cx="817884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oor Law of 1834: created poor houses &amp; put able-bodied paupers to work. (hated by the poor)</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6: Corn Laws repeale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Act of 1819: banned employment of children under 9 in cotton mills &amp; limited older kids to 12 hours per day.</a:t>
            </a:r>
            <a:endParaRPr b="0" lang="en-US" sz="32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7"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Act of 1833: Applied to all textile mills.</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ned employment of kids under 9</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a 9 hour day for kids 9-13 and a 12 hour day for kids 13-18.</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inspection to enforce the law.</a:t>
            </a:r>
            <a:endParaRPr b="0" lang="en-US" sz="28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 Act of 1842: banned women and children under 10 from working in mine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 Hour Law of 1847: established a ten hour day for women and children in textile mills.</a:t>
            </a:r>
            <a:endParaRPr b="0" lang="en-US" sz="32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9" name="PlaceHolder 2"/>
          <p:cNvSpPr>
            <a:spLocks noGrp="1"/>
          </p:cNvSpPr>
          <p:nvPr>
            <p:ph/>
          </p:nvPr>
        </p:nvSpPr>
        <p:spPr>
          <a:xfrm>
            <a:off x="456840" y="2133720"/>
            <a:ext cx="817884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70: Education Act: Free public elementary education was provided for all children, and England’s educational standards were upgrade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Insurance Act of 1911: required employers to provide health and unemployment insurance to all workers.</a:t>
            </a:r>
            <a:endParaRPr b="0" lang="en-US" sz="3200" spc="-1" strike="noStrike">
              <a:solidFill>
                <a:srgbClr val="000000"/>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rish Problem</a:t>
            </a:r>
            <a:endParaRPr b="0" lang="en-US" sz="4000" spc="-1" strike="noStrike">
              <a:solidFill>
                <a:srgbClr val="000000"/>
              </a:solidFill>
              <a:latin typeface="Arial Black"/>
            </a:endParaRPr>
          </a:p>
        </p:txBody>
      </p:sp>
      <p:sp>
        <p:nvSpPr>
          <p:cNvPr id="231" name="PlaceHolder 2"/>
          <p:cNvSpPr>
            <a:spLocks noGrp="1"/>
          </p:cNvSpPr>
          <p:nvPr>
            <p:ph/>
          </p:nvPr>
        </p:nvSpPr>
        <p:spPr>
          <a:xfrm>
            <a:off x="0" y="1294920"/>
            <a:ext cx="914400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sh people were bitter toward the British for the following reasons:</a:t>
            </a:r>
            <a:endParaRPr b="0" lang="en-US" sz="32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forced to support the Anglican church</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bsentee landlords controlled most Irish land and charged high rents.  They evicted peasants who couldn’t pay.</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glish did little to relieve the misery created by the crop failures of the 1840’s (the potato famines)</a:t>
            </a:r>
            <a:endParaRPr b="0" lang="en-US" sz="28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sh wanted home rule but didn’t get it in the 19th century.</a:t>
            </a:r>
            <a:endParaRPr b="0" lang="en-US" sz="32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a:t>
            </a:r>
            <a:endParaRPr b="0" lang="en-US" sz="4000" spc="-1" strike="noStrike">
              <a:solidFill>
                <a:srgbClr val="000000"/>
              </a:solidFill>
              <a:latin typeface="Arial Black"/>
            </a:endParaRPr>
          </a:p>
        </p:txBody>
      </p:sp>
      <p:sp>
        <p:nvSpPr>
          <p:cNvPr id="233"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2: Napoleon III declares the establishment of the 2nd French Empir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omestic policies included: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public works projects (canals, roads, RR)</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d legal barriers to trade union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industrialization and promoted economic prosperity, gaining the support of the middle cla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ench Foreign Policy</a:t>
            </a:r>
            <a:endParaRPr b="0" lang="en-US" sz="4000" spc="-1" strike="noStrike">
              <a:solidFill>
                <a:srgbClr val="000000"/>
              </a:solidFill>
              <a:latin typeface="Arial Black"/>
            </a:endParaRPr>
          </a:p>
        </p:txBody>
      </p:sp>
      <p:sp>
        <p:nvSpPr>
          <p:cNvPr id="23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III followed these policie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ped Russian aggression in the Crimean War.</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d Algier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Piedmont gain independence from Austria, but stationed troops in Rome to protect the Pope</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ded Mexico in 1862 and set up the Austrian archduke Maximilian as King.  After the US Civil War ended, the US forced French withdrawal.</a:t>
            </a:r>
            <a:endParaRPr b="0" lang="en-US" sz="28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in the French Empire</a:t>
            </a: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s protested after the humiliation of France in the Maximilian affair.</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olics were mad because Napoleon had helped Piedmo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s were made that they didn’t have a democratic form of governme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were striking due to poor wages &amp; working conditions.</a:t>
            </a:r>
            <a:endParaRPr b="0" lang="en-US" sz="32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Black"/>
              </a:rPr>
              <a:t>French Revolution of 1870</a:t>
            </a:r>
            <a:endParaRPr b="0" lang="en-US" sz="4000" spc="-1" strike="noStrike">
              <a:solidFill>
                <a:srgbClr val="000000"/>
              </a:solidFill>
              <a:latin typeface="Arial Black"/>
            </a:endParaRPr>
          </a:p>
        </p:txBody>
      </p:sp>
      <p:sp>
        <p:nvSpPr>
          <p:cNvPr id="239" name="PlaceHolder 2"/>
          <p:cNvSpPr>
            <a:spLocks noGrp="1"/>
          </p:cNvSpPr>
          <p:nvPr>
            <p:ph/>
          </p:nvPr>
        </p:nvSpPr>
        <p:spPr>
          <a:xfrm>
            <a:off x="456840" y="1676160"/>
            <a:ext cx="81788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70: Napoleon plunged France into war with Prussia in hopes of restoring the glory of France (remember the Ems Dispatch)</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efeat of France in the Franco-Prussian war, revolts broke out &amp; Napoleon III abdicate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visional gov’t was formed, but it was unsuccessful because it chose to stay in the war.</a:t>
            </a:r>
            <a:endParaRPr b="0" lang="en-US" sz="3200" spc="-1" strike="noStrike">
              <a:solidFill>
                <a:srgbClr val="000000"/>
              </a:solidFill>
              <a:latin typeface="Arial"/>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9" dur="2000"/>
                                        <p:tgtEl>
                                          <p:spTgt spid="23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39">
                                            <p:txEl>
                                              <p:pRg st="1" end="1"/>
                                            </p:txEl>
                                          </p:spTgt>
                                        </p:tgtEl>
                                        <p:attrNameLst>
                                          <p:attrName>style.visibility</p:attrName>
                                        </p:attrNameLst>
                                      </p:cBhvr>
                                      <p:to>
                                        <p:strVal val="visible"/>
                                      </p:to>
                                    </p:set>
                                    <p:animEffect filter="fade" transition="in">
                                      <p:cBhvr additive="repl">
                                        <p:cTn id="34" dur="1000"/>
                                        <p:tgtEl>
                                          <p:spTgt spid="239">
                                            <p:txEl>
                                              <p:pRg st="1" end="1"/>
                                            </p:txEl>
                                          </p:spTgt>
                                        </p:tgtEl>
                                      </p:cBhvr>
                                    </p:animEffect>
                                    <p:anim calcmode="lin" valueType="num">
                                      <p:cBhvr additive="repl">
                                        <p:cTn id="35"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39">
                                            <p:txEl>
                                              <p:pRg st="2" end="2"/>
                                            </p:txEl>
                                          </p:spTgt>
                                        </p:tgtEl>
                                        <p:attrNameLst>
                                          <p:attrName>style.visibility</p:attrName>
                                        </p:attrNameLst>
                                      </p:cBhvr>
                                      <p:to>
                                        <p:strVal val="visible"/>
                                      </p:to>
                                    </p:set>
                                    <p:animEffect filter="slide(fromRight)" transition="in">
                                      <p:cBhvr additive="repl">
                                        <p:cTn id="4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Third French Republic</a:t>
            </a:r>
            <a:endParaRPr b="0" lang="en-US" sz="4000" spc="-1" strike="noStrike">
              <a:solidFill>
                <a:srgbClr val="000000"/>
              </a:solidFill>
              <a:latin typeface="Arial Black"/>
            </a:endParaRPr>
          </a:p>
        </p:txBody>
      </p:sp>
      <p:sp>
        <p:nvSpPr>
          <p:cNvPr id="241" name="PlaceHolder 2"/>
          <p:cNvSpPr>
            <a:spLocks noGrp="1"/>
          </p:cNvSpPr>
          <p:nvPr>
            <p:ph/>
          </p:nvPr>
        </p:nvSpPr>
        <p:spPr>
          <a:xfrm>
            <a:off x="228600" y="1905120"/>
            <a:ext cx="8686800" cy="417168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tes in the new National Assembly ranged from various monarchists to radical republicans.  </a:t>
            </a:r>
            <a:endParaRPr b="0" lang="en-US" sz="32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e dissension between different factions of monarchists, the Republicans passed a series of laws which collectively became the Constitution of the Third French Republic.</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ublic began in 1871 and ended in 1940.</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ingdom of the Two Sicilies (Naples)</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15: Restoration of Bourbon King Ferdinand I:  very corrupt &amp; conservativ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Carbonari revolted against king &amp; forced him to accept a more liberal constitution.</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sent an army to Italy to restore the king’s power</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500" fill="hold"/>
                                        <p:tgtEl>
                                          <p:spTgt spid="99">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99">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9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9">
                                            <p:txEl>
                                              <p:pRg st="1" end="1"/>
                                            </p:txEl>
                                          </p:spTgt>
                                        </p:tgtEl>
                                        <p:attrNameLst>
                                          <p:attrName>style.visibility</p:attrName>
                                        </p:attrNameLst>
                                      </p:cBhvr>
                                      <p:to>
                                        <p:strVal val="visible"/>
                                      </p:to>
                                    </p:set>
                                    <p:anim calcmode="lin" valueType="num">
                                      <p:cBhvr additive="repl">
                                        <p:cTn id="14" dur="50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repl">
                                        <p:cTn id="15" dur="50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9">
                                            <p:txEl>
                                              <p:pRg st="2" end="2"/>
                                            </p:txEl>
                                          </p:spTgt>
                                        </p:tgtEl>
                                        <p:attrNameLst>
                                          <p:attrName>style.visibility</p:attrName>
                                        </p:attrNameLst>
                                      </p:cBhvr>
                                      <p:to>
                                        <p:strVal val="visible"/>
                                      </p:to>
                                    </p:set>
                                    <p:anim calcmode="discrete" valueType="clr">
                                      <p:cBhvr additive="repl">
                                        <p:cTn id="20" dur="80"/>
                                        <p:tgtEl>
                                          <p:spTgt spid="9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 dur="80"/>
                                        <p:tgtEl>
                                          <p:spTgt spid="99">
                                            <p:txEl>
                                              <p:pRg st="2" end="2"/>
                                            </p:txEl>
                                          </p:spTgt>
                                        </p:tgtEl>
                                        <p:attrNameLst>
                                          <p:attrName>fillcolor</p:attrName>
                                        </p:attrNameLst>
                                      </p:cBhvr>
                                      <p:tavLst>
                                        <p:tav tm="0">
                                          <p:val>
                                            <p:strVal val="rgb(-103,51,51)"/>
                                          </p:val>
                                        </p:tav>
                                        <p:tav tm="50000">
                                          <p:val>
                                            <p:strVal val="rgb(-103,-103,0)"/>
                                          </p:val>
                                        </p:tav>
                                      </p:tavLst>
                                    </p:anim>
                                    <p:set>
                                      <p:cBhvr>
                                        <p:cTn id="22" dur="80"/>
                                        <p:tgtEl>
                                          <p:spTgt spid="9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of the Third French Republic</a:t>
            </a:r>
            <a:endParaRPr b="0" lang="en-US" sz="4000" spc="-1" strike="noStrike">
              <a:solidFill>
                <a:srgbClr val="000000"/>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langer Affair: a monarchist general (Boul) who wanted to become dictator, he was discredited by the government.</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yfus Affair: a Jewish Republican army captain was framed by monarchist army officers for treason. His unfair trial discredited the monarchist faction of the government. </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la wrote “J’accuse” in his defense</a:t>
            </a:r>
            <a:endParaRPr b="0" lang="en-US" sz="2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ian Unification</a:t>
            </a:r>
            <a:endParaRPr b="0" lang="en-US" sz="4000" spc="-1" strike="noStrike">
              <a:solidFill>
                <a:srgbClr val="000000"/>
              </a:solidFill>
              <a:latin typeface="Arial Black"/>
            </a:endParaRPr>
          </a:p>
        </p:txBody>
      </p:sp>
      <p:sp>
        <p:nvSpPr>
          <p:cNvPr id="2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1815, Italy was disunited and consisted of the following parts:</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dom of the 2 Sicilies (Naples) controlled by Austria in Southern Ital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al States and Austrian-controlled Parma, Tuscany, and Modena in North-central Ital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n-controlled provinces of Lombardy + Venetia and the free Kingdom of Sardinia-Piedmont in North Italy.</a:t>
            </a:r>
            <a:endParaRPr b="0" lang="en-US" sz="2800" spc="-1" strike="noStrike">
              <a:solidFill>
                <a:srgbClr val="000000"/>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ian Unification</a:t>
            </a:r>
            <a:endParaRPr b="0" lang="en-US" sz="4000" spc="-1" strike="noStrike">
              <a:solidFill>
                <a:srgbClr val="000000"/>
              </a:solidFill>
              <a:latin typeface="Arial Black"/>
            </a:endParaRPr>
          </a:p>
        </p:txBody>
      </p:sp>
      <p:sp>
        <p:nvSpPr>
          <p:cNvPr id="247" name="PlaceHolder 2"/>
          <p:cNvSpPr>
            <a:spLocks noGrp="1"/>
          </p:cNvSpPr>
          <p:nvPr>
            <p:ph/>
          </p:nvPr>
        </p:nvSpPr>
        <p:spPr>
          <a:xfrm>
            <a:off x="533160" y="159984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 movements to unite Italy in 1848 were a failure but nationalists did not give up.</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methods to unite Italy existed:</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zzini: Romantic Republicanism “Young Italy”</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ibaldi: Red Shirts</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our: Moderate Liberalism: wanted a constitutional monarchy under the king of Sardinia-Piedmont.</a:t>
            </a:r>
            <a:endParaRPr b="0" lang="en-US" sz="2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Process of Unification</a:t>
            </a:r>
            <a:endParaRPr b="0" lang="en-US" sz="40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our was the mastermind of the successful unification of Ital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id the following things:</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ed the army and economy of Sardinia-Piedmont (he was its Prime Minister)</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n alliance with Napoleon III at the Plombiers conference.</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oked war with Austria and forced Austria to ceded Lombardy to Sardinia-Piedmont.</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Steps in the Unification Process</a:t>
            </a:r>
            <a:endParaRPr b="0" lang="en-US" sz="4000" spc="-1" strike="noStrike">
              <a:solidFill>
                <a:srgbClr val="000000"/>
              </a:solidFill>
              <a:latin typeface="Arial Black"/>
            </a:endParaRPr>
          </a:p>
        </p:txBody>
      </p:sp>
      <p:sp>
        <p:nvSpPr>
          <p:cNvPr id="251" name="PlaceHolder 2"/>
          <p:cNvSpPr>
            <a:spLocks noGrp="1"/>
          </p:cNvSpPr>
          <p:nvPr>
            <p:ph/>
          </p:nvPr>
        </p:nvSpPr>
        <p:spPr>
          <a:xfrm>
            <a:off x="0" y="1599840"/>
            <a:ext cx="91440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chies of Parma, Tuscany, and Modena successfully revolted against Austria and united with Sardinia-Piedmon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ibaldi did the following:</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ded Naples in 1861, after securing Sicily.</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many battles in S. Italy and then turned the region over to King Victor Emmanuel II of Sardinia-Piedmont.</a:t>
            </a:r>
            <a:endParaRPr b="0" lang="en-US" sz="28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our invaded the Papal States, taking over everything except Rome.</a:t>
            </a:r>
            <a:endParaRPr b="0" lang="en-US" sz="32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ian Unification</a:t>
            </a:r>
            <a:endParaRPr b="0" lang="en-US" sz="40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1: Victor Emmanuel II becomes King of Ital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ismo policy followed</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71: Rome &amp; Venetia annexed by Ital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consisted of a limited monarchy with a bicameral legislature consisting of a senate (appointed for life by the king) and a chamber of deputies (elected by the middle &amp; upper classes).</a:t>
            </a:r>
            <a:endParaRPr b="0" lang="en-US" sz="3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in Italy</a:t>
            </a:r>
            <a:endParaRPr b="0" lang="en-US" sz="4000" spc="-1" strike="noStrike">
              <a:solidFill>
                <a:srgbClr val="000000"/>
              </a:solidFill>
              <a:latin typeface="Arial Black"/>
            </a:endParaRPr>
          </a:p>
        </p:txBody>
      </p:sp>
      <p:sp>
        <p:nvSpPr>
          <p:cNvPr id="255"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was poor with a large illiterate population.</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eople were ignorant of democratic ideas &amp; did not participate in government.</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condemned the new gov’t and decreed that Catholics should not participate in it.</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th was more developed than the south and the 2 regions had little in common, economically and socially.</a:t>
            </a:r>
            <a:endParaRPr b="0" lang="en-US" sz="32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lving Italy’s Problems</a:t>
            </a:r>
            <a:endParaRPr b="0" lang="en-US" sz="4000" spc="-1" strike="noStrike">
              <a:solidFill>
                <a:srgbClr val="000000"/>
              </a:solidFill>
              <a:latin typeface="Arial Black"/>
            </a:endParaRPr>
          </a:p>
        </p:txBody>
      </p:sp>
      <p:sp>
        <p:nvSpPr>
          <p:cNvPr id="257" name="PlaceHolder 2"/>
          <p:cNvSpPr>
            <a:spLocks noGrp="1"/>
          </p:cNvSpPr>
          <p:nvPr>
            <p:ph/>
          </p:nvPr>
        </p:nvSpPr>
        <p:spPr>
          <a:xfrm>
            <a:off x="533160" y="1599840"/>
            <a:ext cx="817884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 and trade were fostered by the governmen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agricultural methods were developed</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an gov’t encouraged emigration to the US to ease over-population due to such a high birthrate.</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s paid high taxes to support a growing army &amp; navy.</a:t>
            </a:r>
            <a:endParaRPr b="0" lang="en-US" sz="32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Unification</a:t>
            </a:r>
            <a:endParaRPr b="0" lang="en-US" sz="4000" spc="-1" strike="noStrike">
              <a:solidFill>
                <a:srgbClr val="000000"/>
              </a:solidFill>
              <a:latin typeface="Arial Black"/>
            </a:endParaRPr>
          </a:p>
        </p:txBody>
      </p:sp>
      <p:sp>
        <p:nvSpPr>
          <p:cNvPr id="259"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 was supported by the growing middle class &amp; city-workers. (Their influence was growing due to industrialization).</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on between Austria &amp; Prussia further complicated the unification process.</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urning point in Germany occurred when King William I became the king of Prussia in 1861.</a:t>
            </a:r>
            <a:endParaRPr b="0" lang="en-US" sz="32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Unification</a:t>
            </a:r>
            <a:endParaRPr b="0" lang="en-US" sz="40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began to strengthen the Prussian army , but liberals in Parliament opposed the spending of so much money.</a:t>
            </a:r>
            <a:endParaRPr b="0" lang="en-US" sz="32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appointed Otto von Bismarck as chancellor in 1862.</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marck was a typical conservative junker who opposed liberalism</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aised money for the army by disregarding the constitution and invoking medieval laws.</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eece</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revolted against Turkish control in 1821, causing a civil war.</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8, Russia, Britain, and France joined the war on the side of the Greek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Treaty of Adrianople:  Greek independence &amp; Russia gets part of modern-day Romania.</a:t>
            </a:r>
            <a:endParaRPr b="0" lang="en-US" sz="32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ismarck</a:t>
            </a: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iron chancellor,” Bismarck accomplished the following:</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powerful &amp; efficient army</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4: Danish war: ended Danish control of Schlesswig &amp; Holstein</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6: Austro-Prussian war (7 weeks war): established Prussian control of the German states</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d the N. German Confederation</a:t>
            </a:r>
            <a:endParaRPr b="0" lang="en-US" sz="2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ranco-Prussian War</a:t>
            </a:r>
            <a:endParaRPr b="0" lang="en-US" sz="4000" spc="-1" strike="noStrike">
              <a:solidFill>
                <a:srgbClr val="000000"/>
              </a:solidFill>
              <a:latin typeface="Arial Black"/>
            </a:endParaRPr>
          </a:p>
        </p:txBody>
      </p:sp>
      <p:sp>
        <p:nvSpPr>
          <p:cNvPr id="26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ing that only a war with France would allow the annexation of the S. German states, Bismarck engineered a war with Napoleon III in 1870 through the editing of the Ems Dispatch. (“Realpolitik”)</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armies overwhelmed French armies in several months, and in the Treaty of Frankfurt, France ceded Alsace &amp; Lorraine to Germany and paid reparations to Germany.</a:t>
            </a:r>
            <a:endParaRPr b="0" lang="en-US" sz="3200" spc="-1" strike="noStrike">
              <a:solidFill>
                <a:srgbClr val="000000"/>
              </a:solidFill>
              <a:latin typeface="Arial"/>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fication</a:t>
            </a: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the Franco-Prussian War, the 4 Southern Catholic German provinces joined the Prussian dominated German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1, the German Empire was declared with King William I as its Kaiser (emperor).</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de Germany the most powerful nation on the continent, and its military power began to rival that of England. </a:t>
            </a:r>
            <a:endParaRPr b="0" lang="en-US" sz="3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Government</a:t>
            </a:r>
            <a:endParaRPr b="0" lang="en-US" sz="4000" spc="-1" strike="noStrike">
              <a:solidFill>
                <a:srgbClr val="000000"/>
              </a:solidFill>
              <a:latin typeface="Arial Black"/>
            </a:endParaRPr>
          </a:p>
        </p:txBody>
      </p:sp>
      <p:sp>
        <p:nvSpPr>
          <p:cNvPr id="2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states handled local matters</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government handled national matters, such as defense and banking.</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 bicameral legislature</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esrat: 58 reps from member state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chstag: 397 members elected by universal manhood suffrage.</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esrat could only introduce legislation, and Reichstag could only reject it.</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Government</a:t>
            </a:r>
            <a:endParaRPr b="0" lang="en-US" sz="4000" spc="-1" strike="noStrike">
              <a:solidFill>
                <a:srgbClr val="000000"/>
              </a:solidFill>
              <a:latin typeface="Arial Black"/>
            </a:endParaRPr>
          </a:p>
        </p:txBody>
      </p:sp>
      <p:sp>
        <p:nvSpPr>
          <p:cNvPr id="271" name="PlaceHolder 2"/>
          <p:cNvSpPr>
            <a:spLocks noGrp="1"/>
          </p:cNvSpPr>
          <p:nvPr>
            <p:ph/>
          </p:nvPr>
        </p:nvSpPr>
        <p:spPr>
          <a:xfrm>
            <a:off x="456840" y="2133720"/>
            <a:ext cx="817884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ecutive power rested in the hand of the emperor who commanded the army &amp; navy, &amp; appointed gov’t minister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llor: as chief minister, the chancellor was the prime advisor to the emperor and held a huge amount of governing power.</a:t>
            </a:r>
            <a:endParaRPr b="0" lang="en-US" sz="32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complishments of Bismarck</a:t>
            </a:r>
            <a:endParaRPr b="0" lang="en-US" sz="4000" spc="-1" strike="noStrike">
              <a:solidFill>
                <a:srgbClr val="000000"/>
              </a:solidFill>
              <a:latin typeface="Arial Black"/>
            </a:endParaRPr>
          </a:p>
        </p:txBody>
      </p:sp>
      <p:sp>
        <p:nvSpPr>
          <p:cNvPr id="273" name="PlaceHolder 2"/>
          <p:cNvSpPr>
            <a:spLocks noGrp="1"/>
          </p:cNvSpPr>
          <p:nvPr>
            <p:ph/>
          </p:nvPr>
        </p:nvSpPr>
        <p:spPr>
          <a:xfrm>
            <a:off x="0" y="1371240"/>
            <a:ext cx="914400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 of the German Empire: </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uniform currency, and legal code.</a:t>
            </a:r>
            <a:endParaRPr b="0" lang="en-US" sz="2800" spc="-1" strike="noStrike">
              <a:solidFill>
                <a:srgbClr val="000000"/>
              </a:solidFill>
              <a:latin typeface="Arial"/>
            </a:endParaRPr>
          </a:p>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 to suppress the Catholics in the South</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olics organized the Center Party to oppose certain policies of the central gov’t, &amp; Bismarck resented them because of their ties to the Catholic Church</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smarck passed a series of laws to restrict the church  (restricting education &amp; clergy) and the KULTURKAMPF resulted.</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Bismarck backed down.</a:t>
            </a:r>
            <a:endParaRPr b="0" lang="en-US" sz="28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Actions of Bismarck</a:t>
            </a:r>
            <a:endParaRPr b="0" lang="en-US" sz="4000" spc="-1" strike="noStrike">
              <a:solidFill>
                <a:srgbClr val="000000"/>
              </a:solidFill>
              <a:latin typeface="Arial Black"/>
            </a:endParaRPr>
          </a:p>
        </p:txBody>
      </p:sp>
      <p:sp>
        <p:nvSpPr>
          <p:cNvPr id="275"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 to suppress the socialists:</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 appealed to urban workers who resented low pay and bad working condition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marck tried to suppress them forcibly in 1878 with anti-socialist laws, but this failed.</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1880’s, Bismarck began to undermine them by supporting social legislation to gain the support of the worker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rograms included unemployment insurance &amp; workers’ comp., and social security payments for retired Germans.</a:t>
            </a:r>
            <a:endParaRPr b="0" lang="en-US" sz="2800" spc="-1" strike="noStrike">
              <a:solidFill>
                <a:srgbClr val="000000"/>
              </a:solidFill>
              <a:latin typeface="Arial"/>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Policies</a:t>
            </a:r>
            <a:endParaRPr b="0" lang="en-US" sz="4000" spc="-1" strike="noStrike">
              <a:solidFill>
                <a:srgbClr val="000000"/>
              </a:solidFill>
              <a:latin typeface="Arial Black"/>
            </a:endParaRPr>
          </a:p>
        </p:txBody>
      </p:sp>
      <p:sp>
        <p:nvSpPr>
          <p:cNvPr id="2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8: William II (defender of divine right) became king and Bismarck remained the chancellor, until he was dismissed by William.</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II did the following:</a:t>
            </a:r>
            <a:endParaRPr b="0" lang="en-US" sz="32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a strong army &amp; navy</a:t>
            </a:r>
            <a:endParaRPr b="0" lang="en-US" sz="28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industry &amp; commerce</a:t>
            </a:r>
            <a:endParaRPr b="0" lang="en-US" sz="28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imperialism and annexation</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Hungary</a:t>
            </a:r>
            <a:endParaRPr b="0" lang="en-US" sz="4000" spc="-1" strike="noStrike">
              <a:solidFill>
                <a:srgbClr val="000000"/>
              </a:solidFill>
              <a:latin typeface="Arial Black"/>
            </a:endParaRPr>
          </a:p>
        </p:txBody>
      </p:sp>
      <p:sp>
        <p:nvSpPr>
          <p:cNvPr id="279" name="PlaceHolder 2"/>
          <p:cNvSpPr>
            <a:spLocks noGrp="1"/>
          </p:cNvSpPr>
          <p:nvPr>
            <p:ph/>
          </p:nvPr>
        </p:nvSpPr>
        <p:spPr>
          <a:xfrm>
            <a:off x="456840" y="1676520"/>
            <a:ext cx="817884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Emperor Francis-Joseph tried to solve the problems of the empire, they were too great for any one ruler to solve.</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faced by the empire includ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number of national minorities which were living in the empir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xtension of the empire into areas, such as Italy</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compete with the growing power of Prussia.</a:t>
            </a:r>
            <a:endParaRPr b="0" lang="en-US" sz="2800" spc="-1" strike="noStrike">
              <a:solidFill>
                <a:srgbClr val="000000"/>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velopments Before 1867</a:t>
            </a:r>
            <a:endParaRPr b="0" lang="en-US" sz="4000" spc="-1" strike="noStrike">
              <a:solidFill>
                <a:srgbClr val="000000"/>
              </a:solidFill>
              <a:latin typeface="Arial Black"/>
            </a:endParaRPr>
          </a:p>
        </p:txBody>
      </p:sp>
      <p:sp>
        <p:nvSpPr>
          <p:cNvPr id="281"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0: Suspended the Constitution and attempted to develop a more centralized administration of the empire (Bach System)</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5: Concordat with the Catholic Church </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9: Austria fared badly in the Crimean war and the war with France &amp; Piedmont.</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1: October Diploma/February Patent: attempted to rule Hungary dictatorially.</a:t>
            </a: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5:37:43Z</dcterms:created>
  <dc:creator>Susie Gerard</dc:creator>
  <dc:description/>
  <dc:language>en-US</dc:language>
  <cp:lastModifiedBy>Susan Gregory</cp:lastModifiedBy>
  <dcterms:modified xsi:type="dcterms:W3CDTF">2006-04-10T05:07:51Z</dcterms:modified>
  <cp:revision>160</cp:revision>
  <dc:subject/>
  <dc:title>AP European History Test Review  Part Four</dc:title>
</cp:coreProperties>
</file>